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14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34.wmf" ContentType="image/x-wmf"/>
  <Override PartName="/ppt/media/image16.wmf" ContentType="image/x-wmf"/>
  <Override PartName="/ppt/media/image4.wmf" ContentType="image/x-wmf"/>
  <Override PartName="/ppt/media/image69.wmf" ContentType="image/x-wmf"/>
  <Override PartName="/ppt/media/image32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61.wmf" ContentType="image/x-wmf"/>
  <Override PartName="/ppt/media/image62.wmf" ContentType="image/x-wmf"/>
  <Override PartName="/ppt/media/image25.wmf" ContentType="image/x-wmf"/>
  <Override PartName="/ppt/media/image60.wmf" ContentType="image/x-wmf"/>
  <Override PartName="/ppt/media/image23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C9BCE-0C01-4999-95B5-8BCFA8193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EDA64-3455-4B6A-AE6A-B08D5C59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6BD19-DA1F-47F3-A164-EB0007B7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E4360-40A3-472D-BB19-A916D858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EA1E-ABBB-4F23-8A64-1BD414A26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64D2-11E8-4ED0-A88B-A6BFF94A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5242-FA13-465E-A383-2AD082D5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A1DB-D455-4DD6-B664-51680B4D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C757-405C-45CA-9C85-A68D4A07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B602-499E-4A19-B2D0-14F77AE2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4493-6198-423D-ADE0-98715532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6E036-D729-43FA-A489-C1C5058B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2043-CCF0-48FA-AE19-937C4C6A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8A85-5A9D-4727-AE1A-4D52DF63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BCF0-4645-4F64-91F5-F28632EB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B3F4-C037-475D-910D-49C8079C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0D80-C98A-4FEC-B174-F2D7EE5BC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A10B0-BAD4-4557-837C-C2E5E706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379F4-4947-47B9-AEEC-19651548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7C52D-30A8-468B-B88D-45647F2C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087FD-D913-43AB-B8BA-9D9CEFCF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CF31B-3C6A-4898-816D-D23A18D4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B88A9-7FFE-473E-990B-DD79F87A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1153B-8A8A-4E0E-9CEE-F4AECCAD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A0AF-C6EA-4314-B2E0-027395BD4A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1A79-15B8-471D-AF79-AA04192ED7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Advanced Problems 4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18284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problems will be taken from an entire AP Physics B practice exa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ep track of your work and your score on each problem to get an estimate on how you would have performed on the actual exa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8. A waterfall is 100m high. The increase in water temperature at the base is most nearly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85" name="TPChart"/>
          <p:cNvGraphicFramePr/>
          <p:nvPr/>
        </p:nvGraphicFramePr>
        <p:xfrm>
          <a:off x="4508640" y="2362320"/>
          <a:ext cx="4570200" cy="44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362320"/>
                    <a:ext cx="4570200" cy="44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0.2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0.8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2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0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8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8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89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Countdown"/>
          <p:cNvGrpSpPr/>
          <p:nvPr/>
        </p:nvGrpSpPr>
        <p:grpSpPr>
          <a:xfrm>
            <a:off x="1295280" y="5638680"/>
            <a:ext cx="1270080" cy="635040"/>
            <a:chOff x="1295280" y="5638680"/>
            <a:chExt cx="1270080" cy="635040"/>
          </a:xfrm>
        </p:grpSpPr>
        <p:sp>
          <p:nvSpPr>
            <p:cNvPr id="192" name="CDCube"/>
            <p:cNvSpPr/>
            <p:nvPr/>
          </p:nvSpPr>
          <p:spPr>
            <a:xfrm>
              <a:off x="1295280" y="563868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CDText"/>
            <p:cNvSpPr/>
            <p:nvPr/>
          </p:nvSpPr>
          <p:spPr>
            <a:xfrm>
              <a:off x="1396800" y="584172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CDLine"/>
            <p:cNvSpPr/>
            <p:nvPr/>
          </p:nvSpPr>
          <p:spPr>
            <a:xfrm>
              <a:off x="1612800" y="574020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9. A pendulum with a period of 2 sec at sea level is observed in a spacecraft at an altitude above the earth, which is equal to the earth’s radius. The pendulum at that altitude has a period of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6" name="TPChart"/>
          <p:cNvGraphicFramePr/>
          <p:nvPr/>
        </p:nvGraphicFramePr>
        <p:xfrm>
          <a:off x="4573440" y="2819520"/>
          <a:ext cx="457056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3440" y="2819520"/>
                    <a:ext cx="457056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2280" y="26668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 se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 se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 se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 se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 se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99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200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Countdown"/>
          <p:cNvGrpSpPr/>
          <p:nvPr/>
        </p:nvGrpSpPr>
        <p:grpSpPr>
          <a:xfrm>
            <a:off x="1295280" y="5638680"/>
            <a:ext cx="1270080" cy="635040"/>
            <a:chOff x="1295280" y="5638680"/>
            <a:chExt cx="1270080" cy="635040"/>
          </a:xfrm>
        </p:grpSpPr>
        <p:sp>
          <p:nvSpPr>
            <p:cNvPr id="203" name="CDCube"/>
            <p:cNvSpPr/>
            <p:nvPr/>
          </p:nvSpPr>
          <p:spPr>
            <a:xfrm>
              <a:off x="1295280" y="563868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CDText"/>
            <p:cNvSpPr/>
            <p:nvPr/>
          </p:nvSpPr>
          <p:spPr>
            <a:xfrm>
              <a:off x="1396800" y="584172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CDLine"/>
            <p:cNvSpPr/>
            <p:nvPr/>
          </p:nvSpPr>
          <p:spPr>
            <a:xfrm>
              <a:off x="1612800" y="574020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10. The number of Coulombs of charge contained in an alpha particle  </a:t>
            </a:r>
            <a:r>
              <a:rPr b="1" lang="en-US" sz="4000" spc="-1" strike="noStrike" baseline="30000">
                <a:solidFill>
                  <a:srgbClr val="e5e5ff"/>
                </a:solidFill>
                <a:latin typeface="Garamond"/>
              </a:rPr>
              <a:t>4</a:t>
            </a:r>
            <a:r>
              <a:rPr b="1" lang="en-US" sz="4000" spc="-1" strike="noStrike" baseline="-25000">
                <a:solidFill>
                  <a:srgbClr val="e5e5ff"/>
                </a:solidFill>
                <a:latin typeface="Garamond"/>
              </a:rPr>
              <a:t>2</a:t>
            </a:r>
            <a:r>
              <a:rPr b="1" lang="el-GR" sz="4000" spc="-1" strike="noStrike">
                <a:solidFill>
                  <a:srgbClr val="e5e5ff"/>
                </a:solidFill>
                <a:latin typeface="Garamond"/>
              </a:rPr>
              <a:t>α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07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6x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-19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4x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-19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2x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-19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.8x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-19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2x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-19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10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211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Countdown"/>
          <p:cNvGrpSpPr/>
          <p:nvPr/>
        </p:nvGrpSpPr>
        <p:grpSpPr>
          <a:xfrm>
            <a:off x="1295280" y="5638680"/>
            <a:ext cx="1270080" cy="635040"/>
            <a:chOff x="1295280" y="5638680"/>
            <a:chExt cx="1270080" cy="635040"/>
          </a:xfrm>
        </p:grpSpPr>
        <p:sp>
          <p:nvSpPr>
            <p:cNvPr id="214" name="CDCube"/>
            <p:cNvSpPr/>
            <p:nvPr/>
          </p:nvSpPr>
          <p:spPr>
            <a:xfrm>
              <a:off x="1295280" y="563868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CDText"/>
            <p:cNvSpPr/>
            <p:nvPr/>
          </p:nvSpPr>
          <p:spPr>
            <a:xfrm>
              <a:off x="1396800" y="584172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CDLine"/>
            <p:cNvSpPr/>
            <p:nvPr/>
          </p:nvSpPr>
          <p:spPr>
            <a:xfrm>
              <a:off x="1612800" y="574020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11. Two masses, M and m, rest on a frictionless horizontal surface as shown. They are attached by a compressed spring of negligible mass, M=2m. The spring is released, and the masses move apart. Compared with the total momentum of the masses before release, after release, the total momentum is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18" name="TPChart"/>
          <p:cNvGraphicFramePr/>
          <p:nvPr/>
        </p:nvGraphicFramePr>
        <p:xfrm>
          <a:off x="101520" y="2311560"/>
          <a:ext cx="9140760" cy="32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311560"/>
                    <a:ext cx="914076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71600" y="243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lf as mu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chan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wice as mu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 times as mu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een times as mu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6629400"/>
            <a:ext cx="5410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47920" y="6095880"/>
            <a:ext cx="914400" cy="533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9880" y="6324480"/>
            <a:ext cx="533520" cy="304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6248520"/>
            <a:ext cx="22860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590920" y="6248520"/>
            <a:ext cx="7596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666880" y="6248520"/>
            <a:ext cx="22860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895480" y="6248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71800" y="6248520"/>
            <a:ext cx="22860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200400" y="6248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76720" y="6248520"/>
            <a:ext cx="22860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505320" y="6248520"/>
            <a:ext cx="7596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6248520"/>
            <a:ext cx="22860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6172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62520" y="6248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ResponseCounter"/>
          <p:cNvGrpSpPr/>
          <p:nvPr/>
        </p:nvGrpSpPr>
        <p:grpSpPr>
          <a:xfrm>
            <a:off x="7772400" y="3962520"/>
            <a:ext cx="635040" cy="2616120"/>
            <a:chOff x="7772400" y="3962520"/>
            <a:chExt cx="635040" cy="2616120"/>
          </a:xfrm>
        </p:grpSpPr>
        <p:sp>
          <p:nvSpPr>
            <p:cNvPr id="236" name="RCLiquid"/>
            <p:cNvSpPr/>
            <p:nvPr/>
          </p:nvSpPr>
          <p:spPr>
            <a:xfrm>
              <a:off x="7835760" y="6477120"/>
              <a:ext cx="508320" cy="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CBottom"/>
            <p:cNvSpPr/>
            <p:nvPr/>
          </p:nvSpPr>
          <p:spPr>
            <a:xfrm>
              <a:off x="7772400" y="6286680"/>
              <a:ext cx="635040" cy="2919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RCLiquidTop"/>
            <p:cNvSpPr/>
            <p:nvPr/>
          </p:nvSpPr>
          <p:spPr>
            <a:xfrm>
              <a:off x="7835760" y="6261120"/>
              <a:ext cx="508320" cy="241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RCCan"/>
            <p:cNvSpPr/>
            <p:nvPr/>
          </p:nvSpPr>
          <p:spPr>
            <a:xfrm>
              <a:off x="7835760" y="396252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0099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Countdown"/>
          <p:cNvGrpSpPr/>
          <p:nvPr/>
        </p:nvGrpSpPr>
        <p:grpSpPr>
          <a:xfrm>
            <a:off x="7543800" y="3124080"/>
            <a:ext cx="1270080" cy="635040"/>
            <a:chOff x="7543800" y="3124080"/>
            <a:chExt cx="1270080" cy="635040"/>
          </a:xfrm>
        </p:grpSpPr>
        <p:sp>
          <p:nvSpPr>
            <p:cNvPr id="241" name="CDCube"/>
            <p:cNvSpPr/>
            <p:nvPr/>
          </p:nvSpPr>
          <p:spPr>
            <a:xfrm>
              <a:off x="7543800" y="312408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CDText"/>
            <p:cNvSpPr/>
            <p:nvPr/>
          </p:nvSpPr>
          <p:spPr>
            <a:xfrm>
              <a:off x="7645320" y="332712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CDLine"/>
            <p:cNvSpPr/>
            <p:nvPr/>
          </p:nvSpPr>
          <p:spPr>
            <a:xfrm>
              <a:off x="7861320" y="322560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12. The final momentum of mass M compared with that of mass m 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45" name="TPChart"/>
          <p:cNvGraphicFramePr/>
          <p:nvPr/>
        </p:nvGraphicFramePr>
        <p:xfrm>
          <a:off x="127080" y="1473120"/>
          <a:ext cx="9140760" cy="32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80" y="1473120"/>
                    <a:ext cx="9140760" cy="32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971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lf as mu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a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wice as mu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 times as mu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een times as mu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48" name="ResponseCounter"/>
          <p:cNvGrpSpPr/>
          <p:nvPr/>
        </p:nvGrpSpPr>
        <p:grpSpPr>
          <a:xfrm>
            <a:off x="7924680" y="3962520"/>
            <a:ext cx="635040" cy="2616120"/>
            <a:chOff x="7924680" y="3962520"/>
            <a:chExt cx="635040" cy="2616120"/>
          </a:xfrm>
        </p:grpSpPr>
        <p:sp>
          <p:nvSpPr>
            <p:cNvPr id="249" name="RCLiquid"/>
            <p:cNvSpPr/>
            <p:nvPr/>
          </p:nvSpPr>
          <p:spPr>
            <a:xfrm>
              <a:off x="7988040" y="6477120"/>
              <a:ext cx="508320" cy="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RCBottom"/>
            <p:cNvSpPr/>
            <p:nvPr/>
          </p:nvSpPr>
          <p:spPr>
            <a:xfrm>
              <a:off x="7924680" y="6286680"/>
              <a:ext cx="635040" cy="2919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CLiquidTop"/>
            <p:cNvSpPr/>
            <p:nvPr/>
          </p:nvSpPr>
          <p:spPr>
            <a:xfrm>
              <a:off x="7988040" y="6261120"/>
              <a:ext cx="508320" cy="241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CCan"/>
            <p:cNvSpPr/>
            <p:nvPr/>
          </p:nvSpPr>
          <p:spPr>
            <a:xfrm>
              <a:off x="7988040" y="396252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0099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Countdown"/>
          <p:cNvGrpSpPr/>
          <p:nvPr/>
        </p:nvGrpSpPr>
        <p:grpSpPr>
          <a:xfrm>
            <a:off x="7543800" y="3124080"/>
            <a:ext cx="1270080" cy="635040"/>
            <a:chOff x="7543800" y="3124080"/>
            <a:chExt cx="1270080" cy="635040"/>
          </a:xfrm>
        </p:grpSpPr>
        <p:sp>
          <p:nvSpPr>
            <p:cNvPr id="254" name="CDCube"/>
            <p:cNvSpPr/>
            <p:nvPr/>
          </p:nvSpPr>
          <p:spPr>
            <a:xfrm>
              <a:off x="7543800" y="312408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CDText"/>
            <p:cNvSpPr/>
            <p:nvPr/>
          </p:nvSpPr>
          <p:spPr>
            <a:xfrm>
              <a:off x="7645320" y="332712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CDLine"/>
            <p:cNvSpPr/>
            <p:nvPr/>
          </p:nvSpPr>
          <p:spPr>
            <a:xfrm>
              <a:off x="7861320" y="322560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13. The final kinetic energy of mass m, as compared to that of mass M, 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58" name="TPChart"/>
          <p:cNvGraphicFramePr/>
          <p:nvPr/>
        </p:nvGraphicFramePr>
        <p:xfrm>
          <a:off x="127080" y="1473120"/>
          <a:ext cx="9140760" cy="32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80" y="1473120"/>
                    <a:ext cx="9140760" cy="32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971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¼ as gre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½ as gre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er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wice as gre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 times as gre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61" name="ResponseCounter"/>
          <p:cNvGrpSpPr/>
          <p:nvPr/>
        </p:nvGrpSpPr>
        <p:grpSpPr>
          <a:xfrm>
            <a:off x="7924680" y="3962520"/>
            <a:ext cx="635040" cy="2616120"/>
            <a:chOff x="7924680" y="3962520"/>
            <a:chExt cx="635040" cy="2616120"/>
          </a:xfrm>
        </p:grpSpPr>
        <p:sp>
          <p:nvSpPr>
            <p:cNvPr id="262" name="RCLiquid"/>
            <p:cNvSpPr/>
            <p:nvPr/>
          </p:nvSpPr>
          <p:spPr>
            <a:xfrm>
              <a:off x="7988040" y="6477120"/>
              <a:ext cx="508320" cy="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CBottom"/>
            <p:cNvSpPr/>
            <p:nvPr/>
          </p:nvSpPr>
          <p:spPr>
            <a:xfrm>
              <a:off x="7924680" y="6286680"/>
              <a:ext cx="635040" cy="2919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CLiquidTop"/>
            <p:cNvSpPr/>
            <p:nvPr/>
          </p:nvSpPr>
          <p:spPr>
            <a:xfrm>
              <a:off x="7988040" y="6261120"/>
              <a:ext cx="508320" cy="241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CCan"/>
            <p:cNvSpPr/>
            <p:nvPr/>
          </p:nvSpPr>
          <p:spPr>
            <a:xfrm>
              <a:off x="7988040" y="396252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0099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6" name="Countdown"/>
          <p:cNvGrpSpPr/>
          <p:nvPr/>
        </p:nvGrpSpPr>
        <p:grpSpPr>
          <a:xfrm>
            <a:off x="7543800" y="3124080"/>
            <a:ext cx="1270080" cy="635040"/>
            <a:chOff x="7543800" y="3124080"/>
            <a:chExt cx="1270080" cy="635040"/>
          </a:xfrm>
        </p:grpSpPr>
        <p:sp>
          <p:nvSpPr>
            <p:cNvPr id="267" name="CDCube"/>
            <p:cNvSpPr/>
            <p:nvPr/>
          </p:nvSpPr>
          <p:spPr>
            <a:xfrm>
              <a:off x="7543800" y="312408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CDText"/>
            <p:cNvSpPr/>
            <p:nvPr/>
          </p:nvSpPr>
          <p:spPr>
            <a:xfrm>
              <a:off x="7645320" y="332712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CDLine"/>
            <p:cNvSpPr/>
            <p:nvPr/>
          </p:nvSpPr>
          <p:spPr>
            <a:xfrm>
              <a:off x="7861320" y="322560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14. A 20kg  box is pushed along a floor with constant speed and constant force of 40N. The coefficient of friction between the box and the floor i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71" name="TPChart"/>
          <p:cNvGraphicFramePr/>
          <p:nvPr/>
        </p:nvGraphicFramePr>
        <p:xfrm>
          <a:off x="127080" y="2006640"/>
          <a:ext cx="9140760" cy="32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80" y="2006640"/>
                    <a:ext cx="914076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971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0.0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0.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0.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0.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74" name="ResponseCounter"/>
          <p:cNvGrpSpPr/>
          <p:nvPr/>
        </p:nvGrpSpPr>
        <p:grpSpPr>
          <a:xfrm>
            <a:off x="8001000" y="3962520"/>
            <a:ext cx="635040" cy="2616120"/>
            <a:chOff x="8001000" y="3962520"/>
            <a:chExt cx="635040" cy="2616120"/>
          </a:xfrm>
        </p:grpSpPr>
        <p:sp>
          <p:nvSpPr>
            <p:cNvPr id="275" name="RCLiquid"/>
            <p:cNvSpPr/>
            <p:nvPr/>
          </p:nvSpPr>
          <p:spPr>
            <a:xfrm>
              <a:off x="8064360" y="6477120"/>
              <a:ext cx="508320" cy="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CBottom"/>
            <p:cNvSpPr/>
            <p:nvPr/>
          </p:nvSpPr>
          <p:spPr>
            <a:xfrm>
              <a:off x="8001000" y="6286680"/>
              <a:ext cx="635040" cy="2919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CLiquidTop"/>
            <p:cNvSpPr/>
            <p:nvPr/>
          </p:nvSpPr>
          <p:spPr>
            <a:xfrm>
              <a:off x="8064360" y="6261120"/>
              <a:ext cx="508320" cy="241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CCan"/>
            <p:cNvSpPr/>
            <p:nvPr/>
          </p:nvSpPr>
          <p:spPr>
            <a:xfrm>
              <a:off x="8064360" y="396252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0099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Countdown"/>
          <p:cNvGrpSpPr/>
          <p:nvPr/>
        </p:nvGrpSpPr>
        <p:grpSpPr>
          <a:xfrm>
            <a:off x="7543800" y="3124080"/>
            <a:ext cx="1270080" cy="635040"/>
            <a:chOff x="7543800" y="3124080"/>
            <a:chExt cx="1270080" cy="635040"/>
          </a:xfrm>
        </p:grpSpPr>
        <p:sp>
          <p:nvSpPr>
            <p:cNvPr id="280" name="CDCube"/>
            <p:cNvSpPr/>
            <p:nvPr/>
          </p:nvSpPr>
          <p:spPr>
            <a:xfrm>
              <a:off x="7543800" y="312408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CDText"/>
            <p:cNvSpPr/>
            <p:nvPr/>
          </p:nvSpPr>
          <p:spPr>
            <a:xfrm>
              <a:off x="7645320" y="332712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CDLine"/>
            <p:cNvSpPr/>
            <p:nvPr/>
          </p:nvSpPr>
          <p:spPr>
            <a:xfrm>
              <a:off x="7861320" y="322560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Questions 15-17 refer to the following figure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1219320" y="3276720"/>
            <a:ext cx="6248160" cy="1371600"/>
          </a:xfrm>
          <a:prstGeom prst="rtTriangl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691320" y="2238480"/>
            <a:ext cx="1081080" cy="1066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8640" y="2381400"/>
            <a:ext cx="761760" cy="7617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15000" y="198108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 = 1k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696080" y="26668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 =10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667240" y="4343400"/>
            <a:ext cx="15192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97180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Garamond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15. A 1kg hoop of radius 10cm rolls from rest down a ramp and makes 1.5 rev. in 1 second. Its angular acceleration is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92" name="TPChart"/>
          <p:cNvGraphicFramePr/>
          <p:nvPr/>
        </p:nvGraphicFramePr>
        <p:xfrm>
          <a:off x="127080" y="2463840"/>
          <a:ext cx="9140760" cy="32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80" y="2463840"/>
                    <a:ext cx="914076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39716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0.2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rad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rad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rad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rad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0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rad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95" name="ResponseCounter"/>
          <p:cNvGrpSpPr/>
          <p:nvPr/>
        </p:nvGrpSpPr>
        <p:grpSpPr>
          <a:xfrm>
            <a:off x="8077320" y="3657600"/>
            <a:ext cx="635040" cy="2616120"/>
            <a:chOff x="8077320" y="3657600"/>
            <a:chExt cx="635040" cy="2616120"/>
          </a:xfrm>
        </p:grpSpPr>
        <p:sp>
          <p:nvSpPr>
            <p:cNvPr id="296" name="RCLiquid"/>
            <p:cNvSpPr/>
            <p:nvPr/>
          </p:nvSpPr>
          <p:spPr>
            <a:xfrm>
              <a:off x="8140680" y="6172200"/>
              <a:ext cx="508320" cy="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RCBottom"/>
            <p:cNvSpPr/>
            <p:nvPr/>
          </p:nvSpPr>
          <p:spPr>
            <a:xfrm>
              <a:off x="8077320" y="5981760"/>
              <a:ext cx="635040" cy="2919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RCLiquidTop"/>
            <p:cNvSpPr/>
            <p:nvPr/>
          </p:nvSpPr>
          <p:spPr>
            <a:xfrm>
              <a:off x="8140680" y="5956200"/>
              <a:ext cx="508320" cy="241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RCCan"/>
            <p:cNvSpPr/>
            <p:nvPr/>
          </p:nvSpPr>
          <p:spPr>
            <a:xfrm>
              <a:off x="8140680" y="365760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0099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" name="Countdown"/>
          <p:cNvGrpSpPr/>
          <p:nvPr/>
        </p:nvGrpSpPr>
        <p:grpSpPr>
          <a:xfrm>
            <a:off x="7620120" y="2666880"/>
            <a:ext cx="1269720" cy="635040"/>
            <a:chOff x="7620120" y="2666880"/>
            <a:chExt cx="1269720" cy="635040"/>
          </a:xfrm>
        </p:grpSpPr>
        <p:sp>
          <p:nvSpPr>
            <p:cNvPr id="301" name="CDCube"/>
            <p:cNvSpPr/>
            <p:nvPr/>
          </p:nvSpPr>
          <p:spPr>
            <a:xfrm>
              <a:off x="7620120" y="266688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CDText"/>
            <p:cNvSpPr/>
            <p:nvPr/>
          </p:nvSpPr>
          <p:spPr>
            <a:xfrm>
              <a:off x="7721280" y="286992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CDLine"/>
            <p:cNvSpPr/>
            <p:nvPr/>
          </p:nvSpPr>
          <p:spPr>
            <a:xfrm>
              <a:off x="7937280" y="276840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16. If I for the hoop equals mr</a:t>
            </a:r>
            <a:r>
              <a:rPr b="1" lang="en-US" sz="4000" spc="-1" strike="noStrike" baseline="30000">
                <a:solidFill>
                  <a:srgbClr val="e5e5ff"/>
                </a:solidFill>
                <a:latin typeface="Garamond"/>
              </a:rPr>
              <a:t>2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, the net force acting on the hoop is closest t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305" name="TPChart"/>
          <p:cNvGraphicFramePr/>
          <p:nvPr/>
        </p:nvGraphicFramePr>
        <p:xfrm>
          <a:off x="127080" y="2209680"/>
          <a:ext cx="9140760" cy="32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80" y="2209680"/>
                    <a:ext cx="9140760" cy="32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3971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08" name="ResponseCounter"/>
          <p:cNvGrpSpPr/>
          <p:nvPr/>
        </p:nvGrpSpPr>
        <p:grpSpPr>
          <a:xfrm>
            <a:off x="8001000" y="3886200"/>
            <a:ext cx="635040" cy="2616120"/>
            <a:chOff x="8001000" y="3886200"/>
            <a:chExt cx="635040" cy="2616120"/>
          </a:xfrm>
        </p:grpSpPr>
        <p:sp>
          <p:nvSpPr>
            <p:cNvPr id="309" name="RCLiquid"/>
            <p:cNvSpPr/>
            <p:nvPr/>
          </p:nvSpPr>
          <p:spPr>
            <a:xfrm>
              <a:off x="8064360" y="6400800"/>
              <a:ext cx="508320" cy="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RCBottom"/>
            <p:cNvSpPr/>
            <p:nvPr/>
          </p:nvSpPr>
          <p:spPr>
            <a:xfrm>
              <a:off x="8001000" y="6210360"/>
              <a:ext cx="635040" cy="2919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CLiquidTop"/>
            <p:cNvSpPr/>
            <p:nvPr/>
          </p:nvSpPr>
          <p:spPr>
            <a:xfrm>
              <a:off x="8064360" y="6184800"/>
              <a:ext cx="508320" cy="241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RCCan"/>
            <p:cNvSpPr/>
            <p:nvPr/>
          </p:nvSpPr>
          <p:spPr>
            <a:xfrm>
              <a:off x="8064360" y="388620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0099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3" name="Countdown"/>
          <p:cNvGrpSpPr/>
          <p:nvPr/>
        </p:nvGrpSpPr>
        <p:grpSpPr>
          <a:xfrm>
            <a:off x="7543800" y="3124080"/>
            <a:ext cx="1270080" cy="635040"/>
            <a:chOff x="7543800" y="3124080"/>
            <a:chExt cx="1270080" cy="635040"/>
          </a:xfrm>
        </p:grpSpPr>
        <p:sp>
          <p:nvSpPr>
            <p:cNvPr id="314" name="CDCube"/>
            <p:cNvSpPr/>
            <p:nvPr/>
          </p:nvSpPr>
          <p:spPr>
            <a:xfrm>
              <a:off x="7543800" y="312408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CDText"/>
            <p:cNvSpPr/>
            <p:nvPr/>
          </p:nvSpPr>
          <p:spPr>
            <a:xfrm>
              <a:off x="7645320" y="332712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CDLine"/>
            <p:cNvSpPr/>
            <p:nvPr/>
          </p:nvSpPr>
          <p:spPr>
            <a:xfrm>
              <a:off x="7861320" y="322560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 Physics B ex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tion I - 90 min Multiple Choice 70 quest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0% of total grad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culators a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ermit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 may use g = 10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ify calcul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tion II - 90 min Free Response 7 quest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0% of total gr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dit for each answer depends on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quality of your wor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17. The angle </a:t>
            </a:r>
            <a:r>
              <a:rPr b="0" lang="el-GR" sz="4000" spc="-1" strike="noStrike">
                <a:solidFill>
                  <a:srgbClr val="ffffff"/>
                </a:solidFill>
                <a:latin typeface="Garamond"/>
              </a:rPr>
              <a:t>Φ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f the ramp is nearest t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318" name="TPChart"/>
          <p:cNvGraphicFramePr/>
          <p:nvPr/>
        </p:nvGraphicFramePr>
        <p:xfrm>
          <a:off x="127080" y="1473120"/>
          <a:ext cx="9140760" cy="32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80" y="1473120"/>
                    <a:ext cx="9140760" cy="32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971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0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5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0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5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0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21" name="ResponseCounter"/>
          <p:cNvGrpSpPr/>
          <p:nvPr/>
        </p:nvGrpSpPr>
        <p:grpSpPr>
          <a:xfrm>
            <a:off x="8001000" y="4038480"/>
            <a:ext cx="635040" cy="2616120"/>
            <a:chOff x="8001000" y="4038480"/>
            <a:chExt cx="635040" cy="2616120"/>
          </a:xfrm>
        </p:grpSpPr>
        <p:sp>
          <p:nvSpPr>
            <p:cNvPr id="322" name="RCLiquid"/>
            <p:cNvSpPr/>
            <p:nvPr/>
          </p:nvSpPr>
          <p:spPr>
            <a:xfrm>
              <a:off x="8064360" y="6553080"/>
              <a:ext cx="508320" cy="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CBottom"/>
            <p:cNvSpPr/>
            <p:nvPr/>
          </p:nvSpPr>
          <p:spPr>
            <a:xfrm>
              <a:off x="8001000" y="6362640"/>
              <a:ext cx="635040" cy="2919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RCLiquidTop"/>
            <p:cNvSpPr/>
            <p:nvPr/>
          </p:nvSpPr>
          <p:spPr>
            <a:xfrm>
              <a:off x="8064360" y="6337080"/>
              <a:ext cx="508320" cy="241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RCCan"/>
            <p:cNvSpPr/>
            <p:nvPr/>
          </p:nvSpPr>
          <p:spPr>
            <a:xfrm>
              <a:off x="8064360" y="403848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0099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6" name="Countdown"/>
          <p:cNvGrpSpPr/>
          <p:nvPr/>
        </p:nvGrpSpPr>
        <p:grpSpPr>
          <a:xfrm>
            <a:off x="7543800" y="3124080"/>
            <a:ext cx="1270080" cy="635040"/>
            <a:chOff x="7543800" y="3124080"/>
            <a:chExt cx="1270080" cy="635040"/>
          </a:xfrm>
        </p:grpSpPr>
        <p:sp>
          <p:nvSpPr>
            <p:cNvPr id="327" name="CDCube"/>
            <p:cNvSpPr/>
            <p:nvPr/>
          </p:nvSpPr>
          <p:spPr>
            <a:xfrm>
              <a:off x="7543800" y="312408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CDText"/>
            <p:cNvSpPr/>
            <p:nvPr/>
          </p:nvSpPr>
          <p:spPr>
            <a:xfrm>
              <a:off x="7645320" y="332712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CDLine"/>
            <p:cNvSpPr/>
            <p:nvPr/>
          </p:nvSpPr>
          <p:spPr>
            <a:xfrm>
              <a:off x="7861320" y="322560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Question 18 refers to the following figure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1" name=""/>
          <p:cNvSpPr/>
          <p:nvPr/>
        </p:nvSpPr>
        <p:spPr>
          <a:xfrm>
            <a:off x="2209680" y="3581280"/>
            <a:ext cx="4496040" cy="228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67080" y="3200400"/>
            <a:ext cx="685800" cy="3808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3200400"/>
            <a:ext cx="685800" cy="3808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038480" y="338616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3309840"/>
            <a:ext cx="152640" cy="152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581280" y="3228840"/>
            <a:ext cx="15264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747960" y="33955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2057040" y="33526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905120" y="33526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05120" y="35053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4191120"/>
            <a:ext cx="49032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781680" y="33526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119560" y="3367080"/>
            <a:ext cx="1752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010280" y="3505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781680" y="4343400"/>
            <a:ext cx="4572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90720" y="41911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238880" y="4343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18. Two 5kg masses are attached to a spring scale by strings that pass over frictionless pulleys at the edge of a lab table as shown. The spring scale reads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349" name="TPChart"/>
          <p:cNvGraphicFramePr/>
          <p:nvPr/>
        </p:nvGraphicFramePr>
        <p:xfrm>
          <a:off x="101520" y="2616120"/>
          <a:ext cx="9140760" cy="32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616120"/>
                    <a:ext cx="9140760" cy="32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371600" y="274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0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0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0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52" name="ResponseCounter"/>
          <p:cNvGrpSpPr/>
          <p:nvPr/>
        </p:nvGrpSpPr>
        <p:grpSpPr>
          <a:xfrm>
            <a:off x="8001000" y="3962520"/>
            <a:ext cx="635040" cy="2616120"/>
            <a:chOff x="8001000" y="3962520"/>
            <a:chExt cx="635040" cy="2616120"/>
          </a:xfrm>
        </p:grpSpPr>
        <p:sp>
          <p:nvSpPr>
            <p:cNvPr id="353" name="RCLiquid"/>
            <p:cNvSpPr/>
            <p:nvPr/>
          </p:nvSpPr>
          <p:spPr>
            <a:xfrm>
              <a:off x="8064360" y="6477120"/>
              <a:ext cx="508320" cy="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RCBottom"/>
            <p:cNvSpPr/>
            <p:nvPr/>
          </p:nvSpPr>
          <p:spPr>
            <a:xfrm>
              <a:off x="8001000" y="6286680"/>
              <a:ext cx="635040" cy="2919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RCLiquidTop"/>
            <p:cNvSpPr/>
            <p:nvPr/>
          </p:nvSpPr>
          <p:spPr>
            <a:xfrm>
              <a:off x="8064360" y="6261120"/>
              <a:ext cx="508320" cy="241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RCCan"/>
            <p:cNvSpPr/>
            <p:nvPr/>
          </p:nvSpPr>
          <p:spPr>
            <a:xfrm>
              <a:off x="8064360" y="396252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0099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Countdown"/>
          <p:cNvGrpSpPr/>
          <p:nvPr/>
        </p:nvGrpSpPr>
        <p:grpSpPr>
          <a:xfrm>
            <a:off x="7543800" y="3124080"/>
            <a:ext cx="1270080" cy="635040"/>
            <a:chOff x="7543800" y="3124080"/>
            <a:chExt cx="1270080" cy="635040"/>
          </a:xfrm>
        </p:grpSpPr>
        <p:sp>
          <p:nvSpPr>
            <p:cNvPr id="358" name="CDCube"/>
            <p:cNvSpPr/>
            <p:nvPr/>
          </p:nvSpPr>
          <p:spPr>
            <a:xfrm>
              <a:off x="7543800" y="312408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CDText"/>
            <p:cNvSpPr/>
            <p:nvPr/>
          </p:nvSpPr>
          <p:spPr>
            <a:xfrm>
              <a:off x="7645320" y="332712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CDLine"/>
            <p:cNvSpPr/>
            <p:nvPr/>
          </p:nvSpPr>
          <p:spPr>
            <a:xfrm>
              <a:off x="7861320" y="322560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19. A 1500kg car is being driven over a hill of radius 40 m. What is the greatest speed that the car may attain and still remain in contact with the road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362" name="TPChart"/>
          <p:cNvGraphicFramePr/>
          <p:nvPr/>
        </p:nvGraphicFramePr>
        <p:xfrm>
          <a:off x="177840" y="2921040"/>
          <a:ext cx="9140760" cy="32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2921040"/>
                    <a:ext cx="914076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47920" y="3048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m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m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5m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0m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5m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65" name="ResponseCounter"/>
          <p:cNvGrpSpPr/>
          <p:nvPr/>
        </p:nvGrpSpPr>
        <p:grpSpPr>
          <a:xfrm>
            <a:off x="8001000" y="3962520"/>
            <a:ext cx="635040" cy="2616120"/>
            <a:chOff x="8001000" y="3962520"/>
            <a:chExt cx="635040" cy="2616120"/>
          </a:xfrm>
        </p:grpSpPr>
        <p:sp>
          <p:nvSpPr>
            <p:cNvPr id="366" name="RCLiquid"/>
            <p:cNvSpPr/>
            <p:nvPr/>
          </p:nvSpPr>
          <p:spPr>
            <a:xfrm>
              <a:off x="8064360" y="6477120"/>
              <a:ext cx="508320" cy="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CBottom"/>
            <p:cNvSpPr/>
            <p:nvPr/>
          </p:nvSpPr>
          <p:spPr>
            <a:xfrm>
              <a:off x="8001000" y="6286680"/>
              <a:ext cx="635040" cy="2919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CLiquidTop"/>
            <p:cNvSpPr/>
            <p:nvPr/>
          </p:nvSpPr>
          <p:spPr>
            <a:xfrm>
              <a:off x="8064360" y="6261120"/>
              <a:ext cx="508320" cy="241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RCCan"/>
            <p:cNvSpPr/>
            <p:nvPr/>
          </p:nvSpPr>
          <p:spPr>
            <a:xfrm>
              <a:off x="8064360" y="396252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0099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Countdown"/>
          <p:cNvGrpSpPr/>
          <p:nvPr/>
        </p:nvGrpSpPr>
        <p:grpSpPr>
          <a:xfrm>
            <a:off x="7543800" y="3124080"/>
            <a:ext cx="1270080" cy="635040"/>
            <a:chOff x="7543800" y="3124080"/>
            <a:chExt cx="1270080" cy="635040"/>
          </a:xfrm>
        </p:grpSpPr>
        <p:sp>
          <p:nvSpPr>
            <p:cNvPr id="371" name="CDCube"/>
            <p:cNvSpPr/>
            <p:nvPr/>
          </p:nvSpPr>
          <p:spPr>
            <a:xfrm>
              <a:off x="7543800" y="312408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CDText"/>
            <p:cNvSpPr/>
            <p:nvPr/>
          </p:nvSpPr>
          <p:spPr>
            <a:xfrm>
              <a:off x="7645320" y="332712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CDLine"/>
            <p:cNvSpPr/>
            <p:nvPr/>
          </p:nvSpPr>
          <p:spPr>
            <a:xfrm>
              <a:off x="7861320" y="322560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Questions 20-21 refer to the following figure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5" name=""/>
          <p:cNvSpPr/>
          <p:nvPr/>
        </p:nvSpPr>
        <p:spPr>
          <a:xfrm>
            <a:off x="1600200" y="28954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447920" y="40384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190520" y="38862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600200" y="28954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590920" y="2590920"/>
            <a:ext cx="533160" cy="5331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124080" y="288144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3505320" y="2590920"/>
            <a:ext cx="22860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733920" y="2590920"/>
            <a:ext cx="22860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3962520" y="2590560"/>
            <a:ext cx="22860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191120" y="2590920"/>
            <a:ext cx="22860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419720" y="28954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562720" y="28954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800600" y="320040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00600" y="32004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48520" y="32004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00600" y="412920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26256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4571640" y="35053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572000" y="3657600"/>
            <a:ext cx="5335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648320" y="3809880"/>
            <a:ext cx="45720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605480" y="39625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6019560" y="35053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19920" y="3657600"/>
            <a:ext cx="5331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6095880" y="3809880"/>
            <a:ext cx="45720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053040" y="39625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441972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562720" y="4419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48006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352680" y="449532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44956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809880" y="44956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038480" y="449568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267080" y="48006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2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638680" y="3581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l-GR" sz="1800" spc="-1" strike="noStrike">
                <a:solidFill>
                  <a:srgbClr val="ffffff"/>
                </a:solidFill>
                <a:latin typeface="Garamond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733920" y="2133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l-GR" sz="1800" spc="-1" strike="noStrike">
                <a:solidFill>
                  <a:srgbClr val="ffffff"/>
                </a:solidFill>
                <a:latin typeface="Garamond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05320" y="50436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l-GR" sz="1800" spc="-1" strike="noStrike">
                <a:solidFill>
                  <a:srgbClr val="ffffff"/>
                </a:solidFill>
                <a:latin typeface="Garamond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267080" y="3581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666880" y="2666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20. If the ammeter in the above illustration reads 2A, resistor R has a value of 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416" name="TPChart"/>
          <p:cNvGraphicFramePr/>
          <p:nvPr/>
        </p:nvGraphicFramePr>
        <p:xfrm>
          <a:off x="177840" y="2438280"/>
          <a:ext cx="9140760" cy="32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2438280"/>
                    <a:ext cx="9140760" cy="32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447920" y="2560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Ω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Ω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Ω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Ω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Ω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spcAft>
                <a:spcPts val="1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19" name="ResponseCounter"/>
          <p:cNvGrpSpPr/>
          <p:nvPr/>
        </p:nvGrpSpPr>
        <p:grpSpPr>
          <a:xfrm>
            <a:off x="7924680" y="3809880"/>
            <a:ext cx="635040" cy="2616120"/>
            <a:chOff x="7924680" y="3809880"/>
            <a:chExt cx="635040" cy="2616120"/>
          </a:xfrm>
        </p:grpSpPr>
        <p:sp>
          <p:nvSpPr>
            <p:cNvPr id="420" name="RCLiquid"/>
            <p:cNvSpPr/>
            <p:nvPr/>
          </p:nvSpPr>
          <p:spPr>
            <a:xfrm>
              <a:off x="7988040" y="6324480"/>
              <a:ext cx="508320" cy="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RCBottom"/>
            <p:cNvSpPr/>
            <p:nvPr/>
          </p:nvSpPr>
          <p:spPr>
            <a:xfrm>
              <a:off x="7924680" y="6134040"/>
              <a:ext cx="635040" cy="2919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CLiquidTop"/>
            <p:cNvSpPr/>
            <p:nvPr/>
          </p:nvSpPr>
          <p:spPr>
            <a:xfrm>
              <a:off x="7988040" y="6108480"/>
              <a:ext cx="508320" cy="241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RCCan"/>
            <p:cNvSpPr/>
            <p:nvPr/>
          </p:nvSpPr>
          <p:spPr>
            <a:xfrm>
              <a:off x="7988040" y="380988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0099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4" name="Countdown"/>
          <p:cNvGrpSpPr/>
          <p:nvPr/>
        </p:nvGrpSpPr>
        <p:grpSpPr>
          <a:xfrm>
            <a:off x="7543800" y="3124080"/>
            <a:ext cx="1270080" cy="635040"/>
            <a:chOff x="7543800" y="3124080"/>
            <a:chExt cx="1270080" cy="635040"/>
          </a:xfrm>
        </p:grpSpPr>
        <p:sp>
          <p:nvSpPr>
            <p:cNvPr id="425" name="CDCube"/>
            <p:cNvSpPr/>
            <p:nvPr/>
          </p:nvSpPr>
          <p:spPr>
            <a:xfrm>
              <a:off x="7543800" y="312408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CDText"/>
            <p:cNvSpPr/>
            <p:nvPr/>
          </p:nvSpPr>
          <p:spPr>
            <a:xfrm>
              <a:off x="7645320" y="332712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CDLine"/>
            <p:cNvSpPr/>
            <p:nvPr/>
          </p:nvSpPr>
          <p:spPr>
            <a:xfrm>
              <a:off x="7861320" y="322560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21. What is the current in the 3</a:t>
            </a:r>
            <a:r>
              <a:rPr b="1" lang="el-GR" sz="4000" spc="-1" strike="noStrike">
                <a:solidFill>
                  <a:srgbClr val="e5e5ff"/>
                </a:solidFill>
                <a:latin typeface="Garamond"/>
              </a:rPr>
              <a:t>Ω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resistor?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429" name="TPChart"/>
          <p:cNvGraphicFramePr/>
          <p:nvPr/>
        </p:nvGraphicFramePr>
        <p:xfrm>
          <a:off x="177840" y="2362320"/>
          <a:ext cx="9140760" cy="32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2362320"/>
                    <a:ext cx="914076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47920" y="248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/5 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/3 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/3 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/5 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/3 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32" name="ResponseCounter"/>
          <p:cNvGrpSpPr/>
          <p:nvPr/>
        </p:nvGrpSpPr>
        <p:grpSpPr>
          <a:xfrm>
            <a:off x="7924680" y="3886200"/>
            <a:ext cx="635040" cy="2616120"/>
            <a:chOff x="7924680" y="3886200"/>
            <a:chExt cx="635040" cy="2616120"/>
          </a:xfrm>
        </p:grpSpPr>
        <p:sp>
          <p:nvSpPr>
            <p:cNvPr id="433" name="RCLiquid"/>
            <p:cNvSpPr/>
            <p:nvPr/>
          </p:nvSpPr>
          <p:spPr>
            <a:xfrm>
              <a:off x="7988040" y="6400800"/>
              <a:ext cx="508320" cy="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RCBottom"/>
            <p:cNvSpPr/>
            <p:nvPr/>
          </p:nvSpPr>
          <p:spPr>
            <a:xfrm>
              <a:off x="7924680" y="6210360"/>
              <a:ext cx="635040" cy="2919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RCLiquidTop"/>
            <p:cNvSpPr/>
            <p:nvPr/>
          </p:nvSpPr>
          <p:spPr>
            <a:xfrm>
              <a:off x="7988040" y="6184800"/>
              <a:ext cx="508320" cy="241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RCCan"/>
            <p:cNvSpPr/>
            <p:nvPr/>
          </p:nvSpPr>
          <p:spPr>
            <a:xfrm>
              <a:off x="7988040" y="388620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0099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Countdown"/>
          <p:cNvGrpSpPr/>
          <p:nvPr/>
        </p:nvGrpSpPr>
        <p:grpSpPr>
          <a:xfrm>
            <a:off x="7543800" y="3124080"/>
            <a:ext cx="1270080" cy="635040"/>
            <a:chOff x="7543800" y="3124080"/>
            <a:chExt cx="1270080" cy="635040"/>
          </a:xfrm>
        </p:grpSpPr>
        <p:sp>
          <p:nvSpPr>
            <p:cNvPr id="438" name="CDCube"/>
            <p:cNvSpPr/>
            <p:nvPr/>
          </p:nvSpPr>
          <p:spPr>
            <a:xfrm>
              <a:off x="7543800" y="312408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CDText"/>
            <p:cNvSpPr/>
            <p:nvPr/>
          </p:nvSpPr>
          <p:spPr>
            <a:xfrm>
              <a:off x="7645320" y="332712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CDLine"/>
            <p:cNvSpPr/>
            <p:nvPr/>
          </p:nvSpPr>
          <p:spPr>
            <a:xfrm>
              <a:off x="7861320" y="322560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Questions 22-23 refer to the following figure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2" name=""/>
          <p:cNvSpPr/>
          <p:nvPr/>
        </p:nvSpPr>
        <p:spPr>
          <a:xfrm>
            <a:off x="3048120" y="167652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3352320" y="1676520"/>
            <a:ext cx="83844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276720" y="2666880"/>
            <a:ext cx="152280" cy="152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 rot="2698200">
            <a:off x="3240360" y="1274760"/>
            <a:ext cx="1982160" cy="19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851" y="177"/>
                </a:moveTo>
                <a:arcTo wR="10800" hR="10800" stAng="-6023825" swAng="6750130"/>
                <a:lnTo>
                  <a:pt x="10800" y="10800"/>
                </a:lnTo>
                <a:close/>
              </a:path>
              <a:path fill="none" w="21600" h="21600">
                <a:moveTo>
                  <a:pt x="8851" y="177"/>
                </a:moveTo>
                <a:arcTo wR="10800" hR="10800" stAng="-6023825" swAng="6750130"/>
              </a:path>
            </a:pathLst>
          </a:custGeom>
          <a:noFill/>
          <a:ln w="936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971800" y="2743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038480" y="32148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105520" y="2757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1371600" y="350496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371600" y="419112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5029200" y="350496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029200" y="419112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3352680" y="510516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352680" y="57913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rot="7991400">
            <a:off x="2250720" y="2788200"/>
            <a:ext cx="152352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18778200">
            <a:off x="1227960" y="3916800"/>
            <a:ext cx="152352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18778200">
            <a:off x="4352400" y="5517000"/>
            <a:ext cx="152352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7991400">
            <a:off x="3117600" y="4388400"/>
            <a:ext cx="152352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7991400">
            <a:off x="5356080" y="2787840"/>
            <a:ext cx="152352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rot="18778200">
            <a:off x="6576480" y="3916800"/>
            <a:ext cx="152352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18778200">
            <a:off x="4338000" y="3916800"/>
            <a:ext cx="152352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495680" y="3733920"/>
            <a:ext cx="533520" cy="6858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358040" y="3809880"/>
            <a:ext cx="566640" cy="3812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219320" y="4724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876920" y="46623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200400" y="6172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286000" y="4738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019920" y="46623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343400" y="6186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914400" y="3581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4956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819520" y="5348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I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22. The above illustration shows a pendulum in simple harmonic motion. Of the following, which represents the pendulum’s velocity versus time and acceleration vs time graphs?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474" name="TPChart"/>
          <p:cNvGraphicFramePr/>
          <p:nvPr/>
        </p:nvGraphicFramePr>
        <p:xfrm>
          <a:off x="444492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and I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and II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I and II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II and 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II and I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77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478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0" name="Countdown"/>
          <p:cNvGrpSpPr/>
          <p:nvPr/>
        </p:nvGrpSpPr>
        <p:grpSpPr>
          <a:xfrm>
            <a:off x="3352680" y="5486400"/>
            <a:ext cx="1270080" cy="635040"/>
            <a:chOff x="3352680" y="5486400"/>
            <a:chExt cx="1270080" cy="635040"/>
          </a:xfrm>
        </p:grpSpPr>
        <p:sp>
          <p:nvSpPr>
            <p:cNvPr id="481" name="CDCube"/>
            <p:cNvSpPr/>
            <p:nvPr/>
          </p:nvSpPr>
          <p:spPr>
            <a:xfrm>
              <a:off x="3352680" y="548640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CDText"/>
            <p:cNvSpPr/>
            <p:nvPr/>
          </p:nvSpPr>
          <p:spPr>
            <a:xfrm>
              <a:off x="3454200" y="568944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CDLine"/>
            <p:cNvSpPr/>
            <p:nvPr/>
          </p:nvSpPr>
          <p:spPr>
            <a:xfrm>
              <a:off x="3670200" y="558792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23. Which are the graphs of potential energy E</a:t>
            </a:r>
            <a:r>
              <a:rPr b="1" lang="en-US" sz="4000" spc="-1" strike="noStrike" baseline="-25000">
                <a:solidFill>
                  <a:srgbClr val="e5e5ff"/>
                </a:solidFill>
                <a:latin typeface="Garamond"/>
              </a:rPr>
              <a:t>p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vs time and kinetic energy E</a:t>
            </a:r>
            <a:r>
              <a:rPr b="1" lang="en-US" sz="4000" spc="-1" strike="noStrike" baseline="-25000">
                <a:solidFill>
                  <a:srgbClr val="e5e5ff"/>
                </a:solidFill>
                <a:latin typeface="Garamond"/>
              </a:rPr>
              <a:t>k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versus time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485" name="TPChart"/>
          <p:cNvGraphicFramePr/>
          <p:nvPr/>
        </p:nvGraphicFramePr>
        <p:xfrm>
          <a:off x="444492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and I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and II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I and 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II and 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II and I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88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489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1" name="Countdown"/>
          <p:cNvGrpSpPr/>
          <p:nvPr/>
        </p:nvGrpSpPr>
        <p:grpSpPr>
          <a:xfrm>
            <a:off x="3352680" y="5486400"/>
            <a:ext cx="1270080" cy="635040"/>
            <a:chOff x="3352680" y="5486400"/>
            <a:chExt cx="1270080" cy="635040"/>
          </a:xfrm>
        </p:grpSpPr>
        <p:sp>
          <p:nvSpPr>
            <p:cNvPr id="492" name="CDCube"/>
            <p:cNvSpPr/>
            <p:nvPr/>
          </p:nvSpPr>
          <p:spPr>
            <a:xfrm>
              <a:off x="3352680" y="548640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CDText"/>
            <p:cNvSpPr/>
            <p:nvPr/>
          </p:nvSpPr>
          <p:spPr>
            <a:xfrm>
              <a:off x="3454200" y="568944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CDLine"/>
            <p:cNvSpPr/>
            <p:nvPr/>
          </p:nvSpPr>
          <p:spPr>
            <a:xfrm>
              <a:off x="3670200" y="558792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1. A 5kg object is moving in a circle of radius 3m at a constant speed of 2m/s. The centripetal acceleration of the object is most nearl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5" name="TPChart"/>
          <p:cNvGraphicFramePr/>
          <p:nvPr/>
        </p:nvGraphicFramePr>
        <p:xfrm>
          <a:off x="4800600" y="2209680"/>
          <a:ext cx="4570560" cy="42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209680"/>
                    <a:ext cx="4570560" cy="42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/3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/3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9.8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08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09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200400" y="3581280"/>
            <a:ext cx="1981080" cy="3812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7339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3657600"/>
            <a:ext cx="152280" cy="152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Countdown"/>
          <p:cNvGrpSpPr/>
          <p:nvPr/>
        </p:nvGrpSpPr>
        <p:grpSpPr>
          <a:xfrm>
            <a:off x="1295280" y="5638680"/>
            <a:ext cx="1270080" cy="635040"/>
            <a:chOff x="1295280" y="5638680"/>
            <a:chExt cx="1270080" cy="635040"/>
          </a:xfrm>
        </p:grpSpPr>
        <p:sp>
          <p:nvSpPr>
            <p:cNvPr id="115" name="CDCube"/>
            <p:cNvSpPr/>
            <p:nvPr/>
          </p:nvSpPr>
          <p:spPr>
            <a:xfrm>
              <a:off x="1295280" y="563868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CDText"/>
            <p:cNvSpPr/>
            <p:nvPr/>
          </p:nvSpPr>
          <p:spPr>
            <a:xfrm>
              <a:off x="1396800" y="584172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CDLine"/>
            <p:cNvSpPr/>
            <p:nvPr/>
          </p:nvSpPr>
          <p:spPr>
            <a:xfrm>
              <a:off x="1612800" y="574020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Questions 24-26 refer to the following figure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6" name=""/>
          <p:cNvSpPr/>
          <p:nvPr/>
        </p:nvSpPr>
        <p:spPr>
          <a:xfrm>
            <a:off x="1219320" y="3733920"/>
            <a:ext cx="6629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18864000">
            <a:off x="1277280" y="2672640"/>
            <a:ext cx="6533280" cy="679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038320" y="3629160"/>
            <a:ext cx="152280" cy="152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343400" y="2666880"/>
            <a:ext cx="152280" cy="152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705720" y="3657600"/>
            <a:ext cx="152280" cy="152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667480" y="2943360"/>
            <a:ext cx="152280" cy="152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00240" y="2943360"/>
            <a:ext cx="152640" cy="152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2104920" y="341424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3048120" y="2819160"/>
            <a:ext cx="4572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419720" y="2743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91320" y="3048120"/>
            <a:ext cx="38088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553080" y="341460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905120" y="38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743200" y="2590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267080" y="2224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791320" y="2590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70572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295280" y="4572000"/>
            <a:ext cx="7010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soccer ball is kicked into the air and reaches its maximum height at point C. Points B and D are equidistant from the ground. Neglect air fri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24. The arrows best showing the ball’s instantaneous acceleration at points B and C ar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515" name="TPChart"/>
          <p:cNvGraphicFramePr/>
          <p:nvPr/>
        </p:nvGraphicFramePr>
        <p:xfrm>
          <a:off x="444492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1828800" y="274284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14600" y="26668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1905120" y="3276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514600" y="3276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209680" y="4572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676520" y="5105520"/>
            <a:ext cx="3808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905120" y="38862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514600" y="38862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514600" y="50292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1676520" y="4495320"/>
            <a:ext cx="30456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8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529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1" name="Countdown"/>
          <p:cNvGrpSpPr/>
          <p:nvPr/>
        </p:nvGrpSpPr>
        <p:grpSpPr>
          <a:xfrm>
            <a:off x="3352680" y="5486400"/>
            <a:ext cx="1270080" cy="635040"/>
            <a:chOff x="3352680" y="5486400"/>
            <a:chExt cx="1270080" cy="635040"/>
          </a:xfrm>
        </p:grpSpPr>
        <p:sp>
          <p:nvSpPr>
            <p:cNvPr id="532" name="CDCube"/>
            <p:cNvSpPr/>
            <p:nvPr/>
          </p:nvSpPr>
          <p:spPr>
            <a:xfrm>
              <a:off x="3352680" y="548640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CDText"/>
            <p:cNvSpPr/>
            <p:nvPr/>
          </p:nvSpPr>
          <p:spPr>
            <a:xfrm>
              <a:off x="3454200" y="568944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CDLine"/>
            <p:cNvSpPr/>
            <p:nvPr/>
          </p:nvSpPr>
          <p:spPr>
            <a:xfrm>
              <a:off x="3670200" y="558792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25. The arrows best showing the ball’s instantaneous velocity at points A and C are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536" name="TPChart"/>
          <p:cNvGraphicFramePr/>
          <p:nvPr/>
        </p:nvGraphicFramePr>
        <p:xfrm>
          <a:off x="444492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1828800" y="251424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514600" y="24382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2514600" y="47239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514600" y="30481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600200" y="3809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05120" y="30481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1676520" y="4191120"/>
            <a:ext cx="15228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286000" y="3809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286000" y="4419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1676520" y="4876560"/>
            <a:ext cx="30456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550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2" name="Countdown"/>
          <p:cNvGrpSpPr/>
          <p:nvPr/>
        </p:nvGrpSpPr>
        <p:grpSpPr>
          <a:xfrm>
            <a:off x="3352680" y="5486400"/>
            <a:ext cx="1270080" cy="635040"/>
            <a:chOff x="3352680" y="5486400"/>
            <a:chExt cx="1270080" cy="635040"/>
          </a:xfrm>
        </p:grpSpPr>
        <p:sp>
          <p:nvSpPr>
            <p:cNvPr id="553" name="CDCube"/>
            <p:cNvSpPr/>
            <p:nvPr/>
          </p:nvSpPr>
          <p:spPr>
            <a:xfrm>
              <a:off x="3352680" y="548640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CDText"/>
            <p:cNvSpPr/>
            <p:nvPr/>
          </p:nvSpPr>
          <p:spPr>
            <a:xfrm>
              <a:off x="3454200" y="568944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CDLine"/>
            <p:cNvSpPr/>
            <p:nvPr/>
          </p:nvSpPr>
          <p:spPr>
            <a:xfrm>
              <a:off x="3670200" y="558792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26. The horizontal and vertical components of the velocity at point D ar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557" name="TPChart"/>
          <p:cNvGraphicFramePr/>
          <p:nvPr/>
        </p:nvGraphicFramePr>
        <p:xfrm>
          <a:off x="444492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0" name=""/>
          <p:cNvSpPr/>
          <p:nvPr/>
        </p:nvSpPr>
        <p:spPr>
          <a:xfrm>
            <a:off x="1752480" y="251460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905120" y="41911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590920" y="35812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76520" y="3200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905120" y="35812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676520" y="4952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286000" y="2666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362320" y="3048120"/>
            <a:ext cx="3808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438280" y="426708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666880" y="46483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571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3" name="Countdown"/>
          <p:cNvGrpSpPr/>
          <p:nvPr/>
        </p:nvGrpSpPr>
        <p:grpSpPr>
          <a:xfrm>
            <a:off x="3352680" y="5486400"/>
            <a:ext cx="1270080" cy="635040"/>
            <a:chOff x="3352680" y="5486400"/>
            <a:chExt cx="1270080" cy="635040"/>
          </a:xfrm>
        </p:grpSpPr>
        <p:sp>
          <p:nvSpPr>
            <p:cNvPr id="574" name="CDCube"/>
            <p:cNvSpPr/>
            <p:nvPr/>
          </p:nvSpPr>
          <p:spPr>
            <a:xfrm>
              <a:off x="3352680" y="548640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CDText"/>
            <p:cNvSpPr/>
            <p:nvPr/>
          </p:nvSpPr>
          <p:spPr>
            <a:xfrm>
              <a:off x="3454200" y="568944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CDLine"/>
            <p:cNvSpPr/>
            <p:nvPr/>
          </p:nvSpPr>
          <p:spPr>
            <a:xfrm>
              <a:off x="3670200" y="558792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27. A tea-heater coil of resistance R and current I is placed in a cup of water of mass m, to heat the water from room temperature to boiling at temperature T for t seconds duration. The heat needed for this process i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578" name="TPChart"/>
          <p:cNvGraphicFramePr/>
          <p:nvPr/>
        </p:nvGraphicFramePr>
        <p:xfrm>
          <a:off x="444492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33520" y="29718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R/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m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m/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/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581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582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4" name="Countdown"/>
          <p:cNvGrpSpPr/>
          <p:nvPr/>
        </p:nvGrpSpPr>
        <p:grpSpPr>
          <a:xfrm>
            <a:off x="3352680" y="5486400"/>
            <a:ext cx="1270080" cy="635040"/>
            <a:chOff x="3352680" y="5486400"/>
            <a:chExt cx="1270080" cy="635040"/>
          </a:xfrm>
        </p:grpSpPr>
        <p:sp>
          <p:nvSpPr>
            <p:cNvPr id="585" name="CDCube"/>
            <p:cNvSpPr/>
            <p:nvPr/>
          </p:nvSpPr>
          <p:spPr>
            <a:xfrm>
              <a:off x="3352680" y="548640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CDText"/>
            <p:cNvSpPr/>
            <p:nvPr/>
          </p:nvSpPr>
          <p:spPr>
            <a:xfrm>
              <a:off x="3454200" y="568944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CDLine"/>
            <p:cNvSpPr/>
            <p:nvPr/>
          </p:nvSpPr>
          <p:spPr>
            <a:xfrm>
              <a:off x="3670200" y="558792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estions 28 - 30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 projectile is fired from a cannon at an angle of 30° with the horizontal and with an initial velocity of 40m/s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28. The time it spends in the air is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591" name="TPChart"/>
          <p:cNvGraphicFramePr/>
          <p:nvPr/>
        </p:nvGraphicFramePr>
        <p:xfrm>
          <a:off x="444492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 seco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 seco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 seco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 seco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 seco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594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595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7" name="Countdown"/>
          <p:cNvGrpSpPr/>
          <p:nvPr/>
        </p:nvGrpSpPr>
        <p:grpSpPr>
          <a:xfrm>
            <a:off x="1447920" y="5410080"/>
            <a:ext cx="1269720" cy="635040"/>
            <a:chOff x="1447920" y="5410080"/>
            <a:chExt cx="1269720" cy="635040"/>
          </a:xfrm>
        </p:grpSpPr>
        <p:sp>
          <p:nvSpPr>
            <p:cNvPr id="598" name="CDCube"/>
            <p:cNvSpPr/>
            <p:nvPr/>
          </p:nvSpPr>
          <p:spPr>
            <a:xfrm>
              <a:off x="1447920" y="541008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CDText"/>
            <p:cNvSpPr/>
            <p:nvPr/>
          </p:nvSpPr>
          <p:spPr>
            <a:xfrm>
              <a:off x="1549080" y="561312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CDLine"/>
            <p:cNvSpPr/>
            <p:nvPr/>
          </p:nvSpPr>
          <p:spPr>
            <a:xfrm>
              <a:off x="1765080" y="551160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29. The horizontal distance it will travel 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602" name="TPChart"/>
          <p:cNvGraphicFramePr/>
          <p:nvPr/>
        </p:nvGraphicFramePr>
        <p:xfrm>
          <a:off x="444492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&lt;100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ween 100 and 2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ween 200 and 4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ween 400 and 5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&gt;500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05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606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8" name="Countdown"/>
          <p:cNvGrpSpPr/>
          <p:nvPr/>
        </p:nvGrpSpPr>
        <p:grpSpPr>
          <a:xfrm>
            <a:off x="3352680" y="5486400"/>
            <a:ext cx="1270080" cy="635040"/>
            <a:chOff x="3352680" y="5486400"/>
            <a:chExt cx="1270080" cy="635040"/>
          </a:xfrm>
        </p:grpSpPr>
        <p:sp>
          <p:nvSpPr>
            <p:cNvPr id="609" name="CDCube"/>
            <p:cNvSpPr/>
            <p:nvPr/>
          </p:nvSpPr>
          <p:spPr>
            <a:xfrm>
              <a:off x="3352680" y="548640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CDText"/>
            <p:cNvSpPr/>
            <p:nvPr/>
          </p:nvSpPr>
          <p:spPr>
            <a:xfrm>
              <a:off x="3454200" y="568944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CDLine"/>
            <p:cNvSpPr/>
            <p:nvPr/>
          </p:nvSpPr>
          <p:spPr>
            <a:xfrm>
              <a:off x="3670200" y="558792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30. It reaches a maximum height of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613" name="TPChart"/>
          <p:cNvGraphicFramePr/>
          <p:nvPr/>
        </p:nvGraphicFramePr>
        <p:xfrm>
          <a:off x="444492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0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5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25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50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16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617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9" name="Countdown"/>
          <p:cNvGrpSpPr/>
          <p:nvPr/>
        </p:nvGrpSpPr>
        <p:grpSpPr>
          <a:xfrm>
            <a:off x="3352680" y="5486400"/>
            <a:ext cx="1270080" cy="635040"/>
            <a:chOff x="3352680" y="5486400"/>
            <a:chExt cx="1270080" cy="635040"/>
          </a:xfrm>
        </p:grpSpPr>
        <p:sp>
          <p:nvSpPr>
            <p:cNvPr id="620" name="CDCube"/>
            <p:cNvSpPr/>
            <p:nvPr/>
          </p:nvSpPr>
          <p:spPr>
            <a:xfrm>
              <a:off x="3352680" y="548640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CDText"/>
            <p:cNvSpPr/>
            <p:nvPr/>
          </p:nvSpPr>
          <p:spPr>
            <a:xfrm>
              <a:off x="3454200" y="568944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CDLine"/>
            <p:cNvSpPr/>
            <p:nvPr/>
          </p:nvSpPr>
          <p:spPr>
            <a:xfrm>
              <a:off x="3670200" y="558792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31. An X-ray photon having a wavelength of 3</a:t>
            </a:r>
            <a:r>
              <a:rPr b="1" i="1" lang="en-US" sz="40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has an energy equivalent closest t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624" name="TPChart"/>
          <p:cNvGraphicFramePr/>
          <p:nvPr/>
        </p:nvGraphicFramePr>
        <p:xfrm>
          <a:off x="444492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-16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-15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-14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-13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-12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27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628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0" name="Countdown"/>
          <p:cNvGrpSpPr/>
          <p:nvPr/>
        </p:nvGrpSpPr>
        <p:grpSpPr>
          <a:xfrm>
            <a:off x="3352680" y="5486400"/>
            <a:ext cx="1270080" cy="635040"/>
            <a:chOff x="3352680" y="5486400"/>
            <a:chExt cx="1270080" cy="635040"/>
          </a:xfrm>
        </p:grpSpPr>
        <p:sp>
          <p:nvSpPr>
            <p:cNvPr id="631" name="CDCube"/>
            <p:cNvSpPr/>
            <p:nvPr/>
          </p:nvSpPr>
          <p:spPr>
            <a:xfrm>
              <a:off x="3352680" y="548640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CDText"/>
            <p:cNvSpPr/>
            <p:nvPr/>
          </p:nvSpPr>
          <p:spPr>
            <a:xfrm>
              <a:off x="3454200" y="568944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CDLine"/>
            <p:cNvSpPr/>
            <p:nvPr/>
          </p:nvSpPr>
          <p:spPr>
            <a:xfrm>
              <a:off x="3670200" y="558792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2. Regarding the object in the previous problem, its angular acceleration with respect to an axis perpendicular to the circle’s center would b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9" name="TPChart"/>
          <p:cNvGraphicFramePr/>
          <p:nvPr/>
        </p:nvGraphicFramePr>
        <p:xfrm>
          <a:off x="4572000" y="2286000"/>
          <a:ext cx="457056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286000"/>
                    <a:ext cx="457056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0 rad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/9rad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/3rad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rad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9/4rad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2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23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Countdown"/>
          <p:cNvGrpSpPr/>
          <p:nvPr/>
        </p:nvGrpSpPr>
        <p:grpSpPr>
          <a:xfrm>
            <a:off x="1295280" y="5638680"/>
            <a:ext cx="1270080" cy="635040"/>
            <a:chOff x="1295280" y="5638680"/>
            <a:chExt cx="1270080" cy="635040"/>
          </a:xfrm>
        </p:grpSpPr>
        <p:sp>
          <p:nvSpPr>
            <p:cNvPr id="126" name="CDCube"/>
            <p:cNvSpPr/>
            <p:nvPr/>
          </p:nvSpPr>
          <p:spPr>
            <a:xfrm>
              <a:off x="1295280" y="563868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CDText"/>
            <p:cNvSpPr/>
            <p:nvPr/>
          </p:nvSpPr>
          <p:spPr>
            <a:xfrm>
              <a:off x="1396800" y="584172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CDLine"/>
            <p:cNvSpPr/>
            <p:nvPr/>
          </p:nvSpPr>
          <p:spPr>
            <a:xfrm>
              <a:off x="1612800" y="574020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32. A circle of radius r is brought near a straight wire carrying current I, which is increasing in value. The wires are both on a flat, horizontal table, as seen from above. The false statement i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5" name=""/>
          <p:cNvSpPr/>
          <p:nvPr/>
        </p:nvSpPr>
        <p:spPr>
          <a:xfrm>
            <a:off x="5562720" y="2209680"/>
            <a:ext cx="1295280" cy="1219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638680" y="2895480"/>
            <a:ext cx="6098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696080" y="20574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715000" y="2666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772400" y="2743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0" name="TPChart"/>
          <p:cNvGraphicFramePr/>
          <p:nvPr/>
        </p:nvGraphicFramePr>
        <p:xfrm>
          <a:off x="4724280" y="3429000"/>
          <a:ext cx="4684680" cy="34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429000"/>
                    <a:ext cx="4684680" cy="34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4560" y="233208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magnetic field inside the wire circle resulting from its induced current is directed into the pape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induced current in the circle flows counterclockwis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current in the circle depends on the changing current in the straight wi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re is a constant magnetic flux through the circ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magnetic flux inside the circle depends on the current in the straight wi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43" name="ResponseCounter"/>
          <p:cNvGrpSpPr/>
          <p:nvPr/>
        </p:nvGrpSpPr>
        <p:grpSpPr>
          <a:xfrm>
            <a:off x="237960" y="6556320"/>
            <a:ext cx="3683160" cy="216000"/>
            <a:chOff x="237960" y="6556320"/>
            <a:chExt cx="3683160" cy="216000"/>
          </a:xfrm>
        </p:grpSpPr>
        <p:sp>
          <p:nvSpPr>
            <p:cNvPr id="644" name="RCFill"/>
            <p:cNvSpPr/>
            <p:nvPr/>
          </p:nvSpPr>
          <p:spPr>
            <a:xfrm>
              <a:off x="262080" y="6582240"/>
              <a:ext cx="3634200" cy="172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RCFrame"/>
            <p:cNvSpPr/>
            <p:nvPr/>
          </p:nvSpPr>
          <p:spPr>
            <a:xfrm>
              <a:off x="237960" y="6556320"/>
              <a:ext cx="3683160" cy="21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6" name="Countdown"/>
          <p:cNvGrpSpPr/>
          <p:nvPr/>
        </p:nvGrpSpPr>
        <p:grpSpPr>
          <a:xfrm>
            <a:off x="304920" y="1828800"/>
            <a:ext cx="1066680" cy="457200"/>
            <a:chOff x="304920" y="1828800"/>
            <a:chExt cx="1066680" cy="457200"/>
          </a:xfrm>
        </p:grpSpPr>
        <p:sp>
          <p:nvSpPr>
            <p:cNvPr id="647" name="CDCube"/>
            <p:cNvSpPr/>
            <p:nvPr/>
          </p:nvSpPr>
          <p:spPr>
            <a:xfrm>
              <a:off x="304920" y="1828800"/>
              <a:ext cx="1066680" cy="45720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CDText"/>
            <p:cNvSpPr/>
            <p:nvPr/>
          </p:nvSpPr>
          <p:spPr>
            <a:xfrm>
              <a:off x="389880" y="1974960"/>
              <a:ext cx="746640" cy="27432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CDLine"/>
            <p:cNvSpPr/>
            <p:nvPr/>
          </p:nvSpPr>
          <p:spPr>
            <a:xfrm>
              <a:off x="571320" y="1901880"/>
              <a:ext cx="426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33. A construction worker on a 20m high scaffolding throws an object sideways with a speed of 9m/s. A trash container is 20m from the base of the scaffolding. How far from the container does the object land?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651" name="TPChart"/>
          <p:cNvGraphicFramePr/>
          <p:nvPr/>
        </p:nvGraphicFramePr>
        <p:xfrm>
          <a:off x="444492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27892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54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655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7" name="Countdown"/>
          <p:cNvGrpSpPr/>
          <p:nvPr/>
        </p:nvGrpSpPr>
        <p:grpSpPr>
          <a:xfrm>
            <a:off x="3352680" y="5486400"/>
            <a:ext cx="1270080" cy="635040"/>
            <a:chOff x="3352680" y="5486400"/>
            <a:chExt cx="1270080" cy="635040"/>
          </a:xfrm>
        </p:grpSpPr>
        <p:sp>
          <p:nvSpPr>
            <p:cNvPr id="658" name="CDCube"/>
            <p:cNvSpPr/>
            <p:nvPr/>
          </p:nvSpPr>
          <p:spPr>
            <a:xfrm>
              <a:off x="3352680" y="548640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CDText"/>
            <p:cNvSpPr/>
            <p:nvPr/>
          </p:nvSpPr>
          <p:spPr>
            <a:xfrm>
              <a:off x="3454200" y="568944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CDLine"/>
            <p:cNvSpPr/>
            <p:nvPr/>
          </p:nvSpPr>
          <p:spPr>
            <a:xfrm>
              <a:off x="3670200" y="558792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34. (3 Volts) x (3 seconds)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x (3 Amperes) equal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662" name="TPChart"/>
          <p:cNvGraphicFramePr/>
          <p:nvPr/>
        </p:nvGraphicFramePr>
        <p:xfrm>
          <a:off x="444492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7 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7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Ω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7 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7 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7 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65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666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8" name="Countdown"/>
          <p:cNvGrpSpPr/>
          <p:nvPr/>
        </p:nvGrpSpPr>
        <p:grpSpPr>
          <a:xfrm>
            <a:off x="3352680" y="5486400"/>
            <a:ext cx="1270080" cy="635040"/>
            <a:chOff x="3352680" y="5486400"/>
            <a:chExt cx="1270080" cy="635040"/>
          </a:xfrm>
        </p:grpSpPr>
        <p:sp>
          <p:nvSpPr>
            <p:cNvPr id="669" name="CDCube"/>
            <p:cNvSpPr/>
            <p:nvPr/>
          </p:nvSpPr>
          <p:spPr>
            <a:xfrm>
              <a:off x="3352680" y="548640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CDText"/>
            <p:cNvSpPr/>
            <p:nvPr/>
          </p:nvSpPr>
          <p:spPr>
            <a:xfrm>
              <a:off x="3454200" y="568944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CDLine"/>
            <p:cNvSpPr/>
            <p:nvPr/>
          </p:nvSpPr>
          <p:spPr>
            <a:xfrm>
              <a:off x="3670200" y="558792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35. A spring with spring constant k decompresses through a distance x and pushes a block of mass m out along a frictionless surface with velocity v=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673" name="TPChart"/>
          <p:cNvGraphicFramePr/>
          <p:nvPr/>
        </p:nvGraphicFramePr>
        <p:xfrm>
          <a:off x="444492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04920" y="2560320"/>
            <a:ext cx="4114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xk/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x(m/k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1/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1/2)mk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kx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1/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x(k/m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1/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76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677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9" name="Countdown"/>
          <p:cNvGrpSpPr/>
          <p:nvPr/>
        </p:nvGrpSpPr>
        <p:grpSpPr>
          <a:xfrm>
            <a:off x="3352680" y="5486400"/>
            <a:ext cx="1270080" cy="635040"/>
            <a:chOff x="3352680" y="5486400"/>
            <a:chExt cx="1270080" cy="635040"/>
          </a:xfrm>
        </p:grpSpPr>
        <p:sp>
          <p:nvSpPr>
            <p:cNvPr id="680" name="CDCube"/>
            <p:cNvSpPr/>
            <p:nvPr/>
          </p:nvSpPr>
          <p:spPr>
            <a:xfrm>
              <a:off x="3352680" y="548640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CDText"/>
            <p:cNvSpPr/>
            <p:nvPr/>
          </p:nvSpPr>
          <p:spPr>
            <a:xfrm>
              <a:off x="3454200" y="568944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CDLine"/>
            <p:cNvSpPr/>
            <p:nvPr/>
          </p:nvSpPr>
          <p:spPr>
            <a:xfrm>
              <a:off x="3670200" y="558792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36. A kilowatt hour is a unit of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684" name="TPChart"/>
          <p:cNvGraphicFramePr/>
          <p:nvPr/>
        </p:nvGraphicFramePr>
        <p:xfrm>
          <a:off x="444492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urr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acit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er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87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688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0" name="Countdown"/>
          <p:cNvGrpSpPr/>
          <p:nvPr/>
        </p:nvGrpSpPr>
        <p:grpSpPr>
          <a:xfrm>
            <a:off x="3352680" y="5486400"/>
            <a:ext cx="1270080" cy="635040"/>
            <a:chOff x="3352680" y="5486400"/>
            <a:chExt cx="1270080" cy="635040"/>
          </a:xfrm>
        </p:grpSpPr>
        <p:sp>
          <p:nvSpPr>
            <p:cNvPr id="691" name="CDCube"/>
            <p:cNvSpPr/>
            <p:nvPr/>
          </p:nvSpPr>
          <p:spPr>
            <a:xfrm>
              <a:off x="3352680" y="548640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CDText"/>
            <p:cNvSpPr/>
            <p:nvPr/>
          </p:nvSpPr>
          <p:spPr>
            <a:xfrm>
              <a:off x="3454200" y="568944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CDLine"/>
            <p:cNvSpPr/>
            <p:nvPr/>
          </p:nvSpPr>
          <p:spPr>
            <a:xfrm>
              <a:off x="3670200" y="558792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37. Each is a vector quantity except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695" name="TPChart"/>
          <p:cNvGraphicFramePr/>
          <p:nvPr/>
        </p:nvGraphicFramePr>
        <p:xfrm>
          <a:off x="444492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locit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mentu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rq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er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ul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98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699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1" name="Countdown"/>
          <p:cNvGrpSpPr/>
          <p:nvPr/>
        </p:nvGrpSpPr>
        <p:grpSpPr>
          <a:xfrm>
            <a:off x="3352680" y="5486400"/>
            <a:ext cx="1270080" cy="635040"/>
            <a:chOff x="3352680" y="5486400"/>
            <a:chExt cx="1270080" cy="635040"/>
          </a:xfrm>
        </p:grpSpPr>
        <p:sp>
          <p:nvSpPr>
            <p:cNvPr id="702" name="CDCube"/>
            <p:cNvSpPr/>
            <p:nvPr/>
          </p:nvSpPr>
          <p:spPr>
            <a:xfrm>
              <a:off x="3352680" y="548640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CDText"/>
            <p:cNvSpPr/>
            <p:nvPr/>
          </p:nvSpPr>
          <p:spPr>
            <a:xfrm>
              <a:off x="3454200" y="568944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CDLine"/>
            <p:cNvSpPr/>
            <p:nvPr/>
          </p:nvSpPr>
          <p:spPr>
            <a:xfrm>
              <a:off x="3670200" y="558792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38. A number of forces act on an object which is in rotational equilibrium. Which are true statements about the state of the object?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706" name="TPChart"/>
          <p:cNvGraphicFramePr/>
          <p:nvPr/>
        </p:nvGraphicFramePr>
        <p:xfrm>
          <a:off x="444492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is no net for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is no torqu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is no net torqu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is no acceler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is no momentu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709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710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2" name="Countdown"/>
          <p:cNvGrpSpPr/>
          <p:nvPr/>
        </p:nvGrpSpPr>
        <p:grpSpPr>
          <a:xfrm>
            <a:off x="3352680" y="5486400"/>
            <a:ext cx="1270080" cy="635040"/>
            <a:chOff x="3352680" y="5486400"/>
            <a:chExt cx="1270080" cy="635040"/>
          </a:xfrm>
        </p:grpSpPr>
        <p:sp>
          <p:nvSpPr>
            <p:cNvPr id="713" name="CDCube"/>
            <p:cNvSpPr/>
            <p:nvPr/>
          </p:nvSpPr>
          <p:spPr>
            <a:xfrm>
              <a:off x="3352680" y="548640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CDText"/>
            <p:cNvSpPr/>
            <p:nvPr/>
          </p:nvSpPr>
          <p:spPr>
            <a:xfrm>
              <a:off x="3454200" y="568944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CDLine"/>
            <p:cNvSpPr/>
            <p:nvPr/>
          </p:nvSpPr>
          <p:spPr>
            <a:xfrm>
              <a:off x="3670200" y="558792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39. Total internal reflection occurs whe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717" name="TPChart"/>
          <p:cNvGraphicFramePr/>
          <p:nvPr/>
        </p:nvGraphicFramePr>
        <p:xfrm>
          <a:off x="444492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n i &gt; sin 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&lt; 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 &lt; 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&gt; 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 &gt; 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720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721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3" name="Countdown"/>
          <p:cNvGrpSpPr/>
          <p:nvPr/>
        </p:nvGrpSpPr>
        <p:grpSpPr>
          <a:xfrm>
            <a:off x="3352680" y="5486400"/>
            <a:ext cx="1270080" cy="635040"/>
            <a:chOff x="3352680" y="5486400"/>
            <a:chExt cx="1270080" cy="635040"/>
          </a:xfrm>
        </p:grpSpPr>
        <p:sp>
          <p:nvSpPr>
            <p:cNvPr id="724" name="CDCube"/>
            <p:cNvSpPr/>
            <p:nvPr/>
          </p:nvSpPr>
          <p:spPr>
            <a:xfrm>
              <a:off x="3352680" y="548640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CDText"/>
            <p:cNvSpPr/>
            <p:nvPr/>
          </p:nvSpPr>
          <p:spPr>
            <a:xfrm>
              <a:off x="3454200" y="568944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CDLine"/>
            <p:cNvSpPr/>
            <p:nvPr/>
          </p:nvSpPr>
          <p:spPr>
            <a:xfrm>
              <a:off x="3670200" y="558792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40. In order for a mass to accelerate, which is true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728" name="TPChart"/>
          <p:cNvGraphicFramePr/>
          <p:nvPr/>
        </p:nvGraphicFramePr>
        <p:xfrm>
          <a:off x="444492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re must be no friction acting on i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re must be a force acting on i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re must be a net force acting on i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re must be no normal force acting on i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re must be a normal force acting on it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731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732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4" name="Countdown"/>
          <p:cNvGrpSpPr/>
          <p:nvPr/>
        </p:nvGrpSpPr>
        <p:grpSpPr>
          <a:xfrm>
            <a:off x="3429000" y="5715000"/>
            <a:ext cx="1270080" cy="635040"/>
            <a:chOff x="3429000" y="5715000"/>
            <a:chExt cx="1270080" cy="635040"/>
          </a:xfrm>
        </p:grpSpPr>
        <p:sp>
          <p:nvSpPr>
            <p:cNvPr id="735" name="CDCube"/>
            <p:cNvSpPr/>
            <p:nvPr/>
          </p:nvSpPr>
          <p:spPr>
            <a:xfrm>
              <a:off x="3429000" y="571500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CDText"/>
            <p:cNvSpPr/>
            <p:nvPr/>
          </p:nvSpPr>
          <p:spPr>
            <a:xfrm>
              <a:off x="3530520" y="591804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CDLine"/>
            <p:cNvSpPr/>
            <p:nvPr/>
          </p:nvSpPr>
          <p:spPr>
            <a:xfrm>
              <a:off x="3746520" y="581652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Questions 41-43 refer to the following figure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9" name=""/>
          <p:cNvSpPr/>
          <p:nvPr/>
        </p:nvSpPr>
        <p:spPr>
          <a:xfrm>
            <a:off x="1981080" y="2743200"/>
            <a:ext cx="4267440" cy="3048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505320" y="2209680"/>
            <a:ext cx="761760" cy="533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324480" y="3733920"/>
            <a:ext cx="533520" cy="12189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248520" y="2514600"/>
            <a:ext cx="30456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4266720" y="251460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553080" y="26668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581280" y="1752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934320" y="4129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581280" y="2362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 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324480" y="4114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 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505320" y="2895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Garamond"/>
              </a:rPr>
              <a:t>μ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=0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3. Two objects, of masses M and m respectively, approach each other from opposite directions, each with speed v m/s. Upon impact, m becomes lodged in M. Their combined velocity is now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0" name="TPChart"/>
          <p:cNvGraphicFramePr/>
          <p:nvPr/>
        </p:nvGraphicFramePr>
        <p:xfrm>
          <a:off x="4572000" y="2514600"/>
          <a:ext cx="457056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514600"/>
                    <a:ext cx="457056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25146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v+mv/(M+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v-mv/(M+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v-mv/(M-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v+mv/(M-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v+mv/(M-m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3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34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Countdown"/>
          <p:cNvGrpSpPr/>
          <p:nvPr/>
        </p:nvGrpSpPr>
        <p:grpSpPr>
          <a:xfrm>
            <a:off x="1295280" y="5638680"/>
            <a:ext cx="1270080" cy="635040"/>
            <a:chOff x="1295280" y="5638680"/>
            <a:chExt cx="1270080" cy="635040"/>
          </a:xfrm>
        </p:grpSpPr>
        <p:sp>
          <p:nvSpPr>
            <p:cNvPr id="137" name="CDCube"/>
            <p:cNvSpPr/>
            <p:nvPr/>
          </p:nvSpPr>
          <p:spPr>
            <a:xfrm>
              <a:off x="1295280" y="563868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CDText"/>
            <p:cNvSpPr/>
            <p:nvPr/>
          </p:nvSpPr>
          <p:spPr>
            <a:xfrm>
              <a:off x="1396800" y="584172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CDLine"/>
            <p:cNvSpPr/>
            <p:nvPr/>
          </p:nvSpPr>
          <p:spPr>
            <a:xfrm>
              <a:off x="1612800" y="574020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41. In the above illustration, a 2kg mass M1 rests on a horizontal table. A second mass of 3kg M2 hangs over the side of the table, connected to M1 by a string that passes over a frictionless pulley. The coefficient of friction between M1 and the table is 0.3. The net force on M1 i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751" name="ResponseCounter"/>
          <p:cNvGrpSpPr/>
          <p:nvPr/>
        </p:nvGrpSpPr>
        <p:grpSpPr>
          <a:xfrm>
            <a:off x="7010280" y="4343400"/>
            <a:ext cx="1270080" cy="1879560"/>
            <a:chOff x="7010280" y="4343400"/>
            <a:chExt cx="1270080" cy="1879560"/>
          </a:xfrm>
        </p:grpSpPr>
        <p:sp>
          <p:nvSpPr>
            <p:cNvPr id="752" name="RCArrow"/>
            <p:cNvSpPr/>
            <p:nvPr/>
          </p:nvSpPr>
          <p:spPr>
            <a:xfrm>
              <a:off x="7010280" y="5168880"/>
              <a:ext cx="1270080" cy="253800"/>
            </a:xfrm>
            <a:prstGeom prst="leftArrow">
              <a:avLst>
                <a:gd name="adj1" fmla="val 50000"/>
                <a:gd name="adj2" fmla="val 125106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cc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RCTextBottom"/>
            <p:cNvSpPr/>
            <p:nvPr/>
          </p:nvSpPr>
          <p:spPr>
            <a:xfrm>
              <a:off x="7315200" y="5968800"/>
              <a:ext cx="63504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RCTextTop"/>
            <p:cNvSpPr/>
            <p:nvPr/>
          </p:nvSpPr>
          <p:spPr>
            <a:xfrm>
              <a:off x="7238880" y="4343400"/>
              <a:ext cx="7621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5" name="Countdown"/>
          <p:cNvGrpSpPr/>
          <p:nvPr/>
        </p:nvGrpSpPr>
        <p:grpSpPr>
          <a:xfrm>
            <a:off x="7162920" y="2895480"/>
            <a:ext cx="1269720" cy="635040"/>
            <a:chOff x="7162920" y="2895480"/>
            <a:chExt cx="1269720" cy="635040"/>
          </a:xfrm>
        </p:grpSpPr>
        <p:sp>
          <p:nvSpPr>
            <p:cNvPr id="756" name="CDCube"/>
            <p:cNvSpPr/>
            <p:nvPr/>
          </p:nvSpPr>
          <p:spPr>
            <a:xfrm>
              <a:off x="7162920" y="289548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CDText"/>
            <p:cNvSpPr/>
            <p:nvPr/>
          </p:nvSpPr>
          <p:spPr>
            <a:xfrm>
              <a:off x="7264080" y="309852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CDLine"/>
            <p:cNvSpPr/>
            <p:nvPr/>
          </p:nvSpPr>
          <p:spPr>
            <a:xfrm>
              <a:off x="7480080" y="299700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759" name="TPChart"/>
          <p:cNvGraphicFramePr/>
          <p:nvPr/>
        </p:nvGraphicFramePr>
        <p:xfrm>
          <a:off x="127080" y="1128600"/>
          <a:ext cx="7654680" cy="561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80" y="1128600"/>
                    <a:ext cx="7654680" cy="56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396800" y="1143000"/>
            <a:ext cx="736596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7080" bIns="127080" anchor="t">
            <a:normAutofit fontScale="99000"/>
          </a:bodyPr>
          <a:p>
            <a:pPr marL="603360" indent="-603360">
              <a:lnSpc>
                <a:spcPct val="90000"/>
              </a:lnSpc>
              <a:spcAft>
                <a:spcPts val="450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6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Aft>
                <a:spcPts val="450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10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Aft>
                <a:spcPts val="450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18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Aft>
                <a:spcPts val="450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24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Aft>
                <a:spcPts val="450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30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42. The acceleration of M1 is most nearl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763" name="TPChart"/>
          <p:cNvGraphicFramePr/>
          <p:nvPr/>
        </p:nvGraphicFramePr>
        <p:xfrm>
          <a:off x="450864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2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6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766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767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0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771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Questions 45-47 refer to the following figure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wo masses, M1 (5kg) and M2 (10kg) are attached by a string placed over a frictionless pulley as shown. The surface is frictionless, and the incline is 30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1295280" y="2133720"/>
            <a:ext cx="5029200" cy="1371600"/>
          </a:xfrm>
          <a:prstGeom prst="rtTriangl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rot="20493600">
            <a:off x="4571640" y="2133720"/>
            <a:ext cx="609480" cy="3808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400800" y="2590920"/>
            <a:ext cx="53352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324480" y="1905120"/>
            <a:ext cx="304920" cy="3045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5181120" y="1905120"/>
            <a:ext cx="1219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629400" y="20574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743560" y="3048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590920" y="3124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Garamond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114800" y="1752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1=5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477120" y="26668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2=10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45. The net force on the system i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787" name="TPChart"/>
          <p:cNvGraphicFramePr/>
          <p:nvPr/>
        </p:nvGraphicFramePr>
        <p:xfrm>
          <a:off x="450864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0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5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0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5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790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791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3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794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46. The acceleration of mass M2 is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798" name="TPChart"/>
          <p:cNvGraphicFramePr/>
          <p:nvPr/>
        </p:nvGraphicFramePr>
        <p:xfrm>
          <a:off x="450864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2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801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802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4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805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47. The 5kg mass (M1) is replaced by a 10kg mass. The new acceleration of M2 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809" name="TPChart"/>
          <p:cNvGraphicFramePr/>
          <p:nvPr/>
        </p:nvGraphicFramePr>
        <p:xfrm>
          <a:off x="450864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5 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 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5 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 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5 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812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813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5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816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48. Isotopes cont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820" name="TPChart"/>
          <p:cNvGraphicFramePr/>
          <p:nvPr/>
        </p:nvGraphicFramePr>
        <p:xfrm>
          <a:off x="4459320" y="1523880"/>
          <a:ext cx="4684680" cy="477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59320" y="1523880"/>
                    <a:ext cx="4684680" cy="477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26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fferent numbers of prot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qual numbers of neutr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fferent numbers of electr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fferent numbers of neutr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qual numbers of nucle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823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824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6" name="Countdown"/>
          <p:cNvGrpSpPr/>
          <p:nvPr/>
        </p:nvGrpSpPr>
        <p:grpSpPr>
          <a:xfrm>
            <a:off x="4114800" y="6019920"/>
            <a:ext cx="1270080" cy="635040"/>
            <a:chOff x="4114800" y="6019920"/>
            <a:chExt cx="1270080" cy="635040"/>
          </a:xfrm>
        </p:grpSpPr>
        <p:sp>
          <p:nvSpPr>
            <p:cNvPr id="827" name="CDCube"/>
            <p:cNvSpPr/>
            <p:nvPr/>
          </p:nvSpPr>
          <p:spPr>
            <a:xfrm>
              <a:off x="4114800" y="601992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CDText"/>
            <p:cNvSpPr/>
            <p:nvPr/>
          </p:nvSpPr>
          <p:spPr>
            <a:xfrm>
              <a:off x="4216320" y="622296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CDLine"/>
            <p:cNvSpPr/>
            <p:nvPr/>
          </p:nvSpPr>
          <p:spPr>
            <a:xfrm>
              <a:off x="4432320" y="612144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49. A standing wave of </a:t>
            </a:r>
            <a:r>
              <a:rPr b="1" lang="el-GR" sz="3200" spc="-1" strike="noStrike">
                <a:solidFill>
                  <a:srgbClr val="e5e5ff"/>
                </a:solidFill>
                <a:latin typeface="Garamond"/>
              </a:rPr>
              <a:t>λ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4m oscillates on a string as shown. If it oscillates at a frequency of 3Hz, its speed i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831" name="TPChart"/>
          <p:cNvGraphicFramePr/>
          <p:nvPr/>
        </p:nvGraphicFramePr>
        <p:xfrm>
          <a:off x="450864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¾ m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/3 m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 m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 m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2 m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834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835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7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838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50. The efficiency of a heat engine that takes in 200J of heat and expels 140J of heat is most nearl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842" name="TPChart"/>
          <p:cNvGraphicFramePr/>
          <p:nvPr/>
        </p:nvGraphicFramePr>
        <p:xfrm>
          <a:off x="450864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380880" y="25146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845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846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8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849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51. Sound waves traveling through water can best be described a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853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rsio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ver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damp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ngitudi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ectromagne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856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857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9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860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4. A 0.5kg brass weight swung in a horizontal circle of radius 1.0m at the rate of 1.0m/s has most nearly this centripetal force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1" name="TPChart"/>
          <p:cNvGraphicFramePr/>
          <p:nvPr/>
        </p:nvGraphicFramePr>
        <p:xfrm>
          <a:off x="4508640" y="1981080"/>
          <a:ext cx="4570200" cy="481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981080"/>
                    <a:ext cx="45702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0.1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0.5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0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0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0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45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Countdown"/>
          <p:cNvGrpSpPr/>
          <p:nvPr/>
        </p:nvGrpSpPr>
        <p:grpSpPr>
          <a:xfrm>
            <a:off x="1295280" y="5638680"/>
            <a:ext cx="1270080" cy="635040"/>
            <a:chOff x="1295280" y="5638680"/>
            <a:chExt cx="1270080" cy="635040"/>
          </a:xfrm>
        </p:grpSpPr>
        <p:sp>
          <p:nvSpPr>
            <p:cNvPr id="148" name="CDCube"/>
            <p:cNvSpPr/>
            <p:nvPr/>
          </p:nvSpPr>
          <p:spPr>
            <a:xfrm>
              <a:off x="1295280" y="563868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CDText"/>
            <p:cNvSpPr/>
            <p:nvPr/>
          </p:nvSpPr>
          <p:spPr>
            <a:xfrm>
              <a:off x="1396800" y="584172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CDLine"/>
            <p:cNvSpPr/>
            <p:nvPr/>
          </p:nvSpPr>
          <p:spPr>
            <a:xfrm>
              <a:off x="1612800" y="574020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52. A sphere of mass m and diameter d is immersed in a liquid of density </a:t>
            </a:r>
            <a:r>
              <a:rPr b="1" lang="el-GR" sz="3200" spc="-1" strike="noStrike">
                <a:solidFill>
                  <a:srgbClr val="e5e5ff"/>
                </a:solidFill>
                <a:latin typeface="Garamond"/>
              </a:rPr>
              <a:t>ρ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. The buoyant force on the sphere i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864" name="TPChart"/>
          <p:cNvGraphicFramePr/>
          <p:nvPr/>
        </p:nvGraphicFramePr>
        <p:xfrm>
          <a:off x="4876920" y="1969920"/>
          <a:ext cx="4570200" cy="488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969920"/>
                    <a:ext cx="4570200" cy="48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ρπd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/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ρπd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/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ρπd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/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ρπd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/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ρπd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/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867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868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0" name=""/>
          <p:cNvSpPr/>
          <p:nvPr/>
        </p:nvSpPr>
        <p:spPr>
          <a:xfrm>
            <a:off x="3124080" y="2743200"/>
            <a:ext cx="2210040" cy="137160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2362320"/>
            <a:ext cx="2210040" cy="3808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809880" y="327672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3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874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53. An object of mass 8kg oscillates vertically on a spring having a spring constant of 2 N/m. Its period 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878" name="TPChart"/>
          <p:cNvGraphicFramePr/>
          <p:nvPr/>
        </p:nvGraphicFramePr>
        <p:xfrm>
          <a:off x="4508640" y="2362320"/>
          <a:ext cx="4570200" cy="44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362320"/>
                    <a:ext cx="4570200" cy="44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881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882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4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885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54. A rock of mass m falls from a high cliff. If the air friction force is given by F=Sv, where v is the velocity of the rock and S is a constant, the acceleration of the rock i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889" name="TPChart"/>
          <p:cNvGraphicFramePr/>
          <p:nvPr/>
        </p:nvGraphicFramePr>
        <p:xfrm>
          <a:off x="4572000" y="2438280"/>
          <a:ext cx="4570560" cy="46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438280"/>
                    <a:ext cx="457056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Sv/m) - g/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 – S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 + S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 – (Sv/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 + (Sv/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892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893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5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896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Questions 55-56 refer to the following figure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0" name=""/>
          <p:cNvSpPr/>
          <p:nvPr/>
        </p:nvSpPr>
        <p:spPr>
          <a:xfrm>
            <a:off x="1371600" y="2514600"/>
            <a:ext cx="5257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371600" y="5257800"/>
            <a:ext cx="5257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352680" y="251460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352680" y="39625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157560" y="39625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152880" y="3657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371600" y="2514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1371600" y="45716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219320" y="45720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914400" y="4343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914400" y="38862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14400" y="3429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219320" y="41148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219320" y="36576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934320" y="45720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929280" y="4267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719680" y="45720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715000" y="42670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477120" y="3276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472080" y="29718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943600" y="49528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5943600" y="4572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162920" y="4572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629400" y="4952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929200" y="38862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148520" y="38862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943600" y="38862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676920" y="32767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629400" y="25146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28600" y="3733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20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666880" y="3429000"/>
            <a:ext cx="609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6</a:t>
            </a:r>
            <a:r>
              <a:rPr b="0" lang="el-GR" sz="1800" spc="-1" strike="noStrike">
                <a:solidFill>
                  <a:srgbClr val="ffffff"/>
                </a:solidFill>
                <a:latin typeface="Garamond"/>
              </a:rPr>
              <a:t>μ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257800" y="4021200"/>
            <a:ext cx="609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l-GR" sz="1800" spc="-1" strike="noStrike">
                <a:solidFill>
                  <a:srgbClr val="ffffff"/>
                </a:solidFill>
                <a:latin typeface="Garamond"/>
              </a:rPr>
              <a:t>μ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315200" y="4021200"/>
            <a:ext cx="609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l-GR" sz="1800" spc="-1" strike="noStrike">
                <a:solidFill>
                  <a:srgbClr val="ffffff"/>
                </a:solidFill>
                <a:latin typeface="Garamond"/>
              </a:rPr>
              <a:t>μ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6019920" y="2649600"/>
            <a:ext cx="609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l-GR" sz="1800" spc="-1" strike="noStrike">
                <a:solidFill>
                  <a:srgbClr val="ffffff"/>
                </a:solidFill>
                <a:latin typeface="Garamond"/>
              </a:rPr>
              <a:t>μ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55. The equivalent capacitance of this circuit is nearest to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935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/6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μ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/5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μ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μ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.5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μ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.5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μ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938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939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1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942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56. The charge stored in the 6 μF capacitor C1 is nearest to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946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00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μ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50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μ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00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μ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50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μ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900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μ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949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950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2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953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57. A current-carrying wire can become a superconductor if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957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 is immersed in a magnetic fiel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 is immersed in a sufficiently cold environm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urrent is chang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wire’s diameter is sufficiently enlarg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wire’s length is sufficiently reduc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960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961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3" name="Countdown"/>
          <p:cNvGrpSpPr/>
          <p:nvPr/>
        </p:nvGrpSpPr>
        <p:grpSpPr>
          <a:xfrm>
            <a:off x="152280" y="990720"/>
            <a:ext cx="1270080" cy="635040"/>
            <a:chOff x="152280" y="990720"/>
            <a:chExt cx="1270080" cy="635040"/>
          </a:xfrm>
        </p:grpSpPr>
        <p:sp>
          <p:nvSpPr>
            <p:cNvPr id="964" name="CDCube"/>
            <p:cNvSpPr/>
            <p:nvPr/>
          </p:nvSpPr>
          <p:spPr>
            <a:xfrm>
              <a:off x="152280" y="99072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CDText"/>
            <p:cNvSpPr/>
            <p:nvPr/>
          </p:nvSpPr>
          <p:spPr>
            <a:xfrm>
              <a:off x="253800" y="119376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CDLine"/>
            <p:cNvSpPr/>
            <p:nvPr/>
          </p:nvSpPr>
          <p:spPr>
            <a:xfrm>
              <a:off x="469800" y="109224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58. A rock is dropped on an alien planet and falls a distance of 2 meters in the first second. The planet’s gravitational acceleration is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968" name="TPChart"/>
          <p:cNvGraphicFramePr/>
          <p:nvPr/>
        </p:nvGraphicFramePr>
        <p:xfrm>
          <a:off x="4508640" y="1981080"/>
          <a:ext cx="4570200" cy="481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981080"/>
                    <a:ext cx="45702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 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 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 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 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 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971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972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4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975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59. A spring is hung from a ring stand. A 2kg mass is now hung on the spring and stretches it a distance of 0.5 m. The spring constant is most nearl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979" name="TPChart"/>
          <p:cNvGraphicFramePr/>
          <p:nvPr/>
        </p:nvGraphicFramePr>
        <p:xfrm>
          <a:off x="4343400" y="2438280"/>
          <a:ext cx="457056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438280"/>
                    <a:ext cx="457056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3352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 N/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0 N/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0 N/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0 N/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0 N/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982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983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5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986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60. Two masses, M1 and M2, are simultaneously dropped in a vacuum. Their distance of separation center to center, is d. As they begin to fall, the gravitational force they exert on each other is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990" name="TPChart"/>
          <p:cNvGraphicFramePr/>
          <p:nvPr/>
        </p:nvGraphicFramePr>
        <p:xfrm>
          <a:off x="4572000" y="2133720"/>
          <a:ext cx="4570560" cy="49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133720"/>
                    <a:ext cx="4570560" cy="49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6840" y="233208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/(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+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/(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+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d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/(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/(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/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993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994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914400" y="5410080"/>
            <a:ext cx="990720" cy="9144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666880" y="5581800"/>
            <a:ext cx="609840" cy="6094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371600" y="58672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0" name="Countdown"/>
          <p:cNvGrpSpPr/>
          <p:nvPr/>
        </p:nvGrpSpPr>
        <p:grpSpPr>
          <a:xfrm>
            <a:off x="3733920" y="5562720"/>
            <a:ext cx="1269720" cy="635040"/>
            <a:chOff x="3733920" y="5562720"/>
            <a:chExt cx="1269720" cy="635040"/>
          </a:xfrm>
        </p:grpSpPr>
        <p:sp>
          <p:nvSpPr>
            <p:cNvPr id="1001" name="CDCube"/>
            <p:cNvSpPr/>
            <p:nvPr/>
          </p:nvSpPr>
          <p:spPr>
            <a:xfrm>
              <a:off x="37339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CDText"/>
            <p:cNvSpPr/>
            <p:nvPr/>
          </p:nvSpPr>
          <p:spPr>
            <a:xfrm>
              <a:off x="38350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CDLine"/>
            <p:cNvSpPr/>
            <p:nvPr/>
          </p:nvSpPr>
          <p:spPr>
            <a:xfrm>
              <a:off x="40510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5. A shell fired from a cannon at a 30° angle with the ground has an initial velocity of 100m/s. It is in the air for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52" name="TPChart"/>
          <p:cNvGraphicFramePr/>
          <p:nvPr/>
        </p:nvGraphicFramePr>
        <p:xfrm>
          <a:off x="4508640" y="2209680"/>
          <a:ext cx="4570200" cy="45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209680"/>
                    <a:ext cx="457020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 seco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 seco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0 seco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5 seco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0 seco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5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56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Countdown"/>
          <p:cNvGrpSpPr/>
          <p:nvPr/>
        </p:nvGrpSpPr>
        <p:grpSpPr>
          <a:xfrm>
            <a:off x="1295280" y="5638680"/>
            <a:ext cx="1270080" cy="635040"/>
            <a:chOff x="1295280" y="5638680"/>
            <a:chExt cx="1270080" cy="635040"/>
          </a:xfrm>
        </p:grpSpPr>
        <p:sp>
          <p:nvSpPr>
            <p:cNvPr id="159" name="CDCube"/>
            <p:cNvSpPr/>
            <p:nvPr/>
          </p:nvSpPr>
          <p:spPr>
            <a:xfrm>
              <a:off x="1295280" y="563868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CDText"/>
            <p:cNvSpPr/>
            <p:nvPr/>
          </p:nvSpPr>
          <p:spPr>
            <a:xfrm>
              <a:off x="1396800" y="584172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CDLine"/>
            <p:cNvSpPr/>
            <p:nvPr/>
          </p:nvSpPr>
          <p:spPr>
            <a:xfrm>
              <a:off x="1612800" y="574020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61. A marble is rolled from rest down the side of a semicircular bowl. At point P, the marble’s acceleration and velocity are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05" name="TPChart"/>
          <p:cNvGraphicFramePr/>
          <p:nvPr/>
        </p:nvGraphicFramePr>
        <p:xfrm>
          <a:off x="4419720" y="3352680"/>
          <a:ext cx="472428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352680"/>
                    <a:ext cx="47242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8" name=""/>
          <p:cNvSpPr/>
          <p:nvPr/>
        </p:nvSpPr>
        <p:spPr>
          <a:xfrm>
            <a:off x="1828800" y="1981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666880" y="1981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676520" y="2666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590920" y="2666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828800" y="2971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590920" y="3124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1828800" y="35053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2819520" y="35053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1828800" y="41911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2819520" y="41148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1828800" y="4724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590920" y="4952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4948560" y="1294560"/>
            <a:ext cx="3047400" cy="21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1" y="9986"/>
                </a:moveTo>
                <a:arcTo wR="10800" hR="10800" stAng="-10540592" swAng="10540592"/>
                <a:lnTo>
                  <a:pt x="10800" y="10800"/>
                </a:lnTo>
                <a:close/>
              </a:path>
              <a:path fill="none" w="21600" h="21600">
                <a:moveTo>
                  <a:pt x="31" y="9986"/>
                </a:moveTo>
                <a:arcTo wR="10800" hR="10800" stAng="-10540592" swAng="10540592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4952880" y="2286000"/>
            <a:ext cx="30492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958000" y="3076560"/>
            <a:ext cx="30456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6019920" y="2681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4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025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7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1028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62. At point P, the direction of the magnetic field due to the wire’s current I i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32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the lef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o the pag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ut of the pag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way from the wi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ward the wi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1066320" y="2362320"/>
            <a:ext cx="34290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666880" y="1828800"/>
            <a:ext cx="76320" cy="763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895480" y="1600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3962520" y="2286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9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040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2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1043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Questions 63-65 refer to the following figure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373356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wire of length 0.2m moves through a constant magnetic field at 90° angle and velocity of 0.2m/s as shown. The 0.5T magnetic field is directed into the pap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8" name=""/>
          <p:cNvSpPr/>
          <p:nvPr/>
        </p:nvSpPr>
        <p:spPr>
          <a:xfrm>
            <a:off x="2438280" y="2209680"/>
            <a:ext cx="3733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36232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6576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9718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95288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26708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563868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2362320" y="22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3657600" y="22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971800" y="22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952880" y="22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267080" y="22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5638680" y="22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362320" y="26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657600" y="26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2971800" y="26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4952880" y="26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267080" y="26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638680" y="26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4114800" y="22860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411480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63. The emf induced in the wire is most nearl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70" name="TPChart"/>
          <p:cNvGraphicFramePr/>
          <p:nvPr/>
        </p:nvGraphicFramePr>
        <p:xfrm>
          <a:off x="444492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0.02 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0.2 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 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 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0 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073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074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6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1077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64. The current induced in the wire is directed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81" name="TPChart"/>
          <p:cNvGraphicFramePr/>
          <p:nvPr/>
        </p:nvGraphicFramePr>
        <p:xfrm>
          <a:off x="4343400" y="2438280"/>
          <a:ext cx="4786200" cy="43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438280"/>
                    <a:ext cx="478620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o the p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ut of the p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the lef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the ri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ockwi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084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085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7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1088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65. The graphical representation of emf and wire speed 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92" name="TPChart"/>
          <p:cNvGraphicFramePr/>
          <p:nvPr/>
        </p:nvGraphicFramePr>
        <p:xfrm>
          <a:off x="4267080" y="3189240"/>
          <a:ext cx="4876920" cy="36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3189240"/>
                    <a:ext cx="487692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5" name=""/>
          <p:cNvSpPr/>
          <p:nvPr/>
        </p:nvSpPr>
        <p:spPr>
          <a:xfrm flipV="1">
            <a:off x="2209680" y="16765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2209680" y="25146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200400" y="2286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 flipV="1">
            <a:off x="2209680" y="29862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209680" y="38242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200400" y="3595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4876920" y="29718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876920" y="38098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5867280" y="3581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flipV="1">
            <a:off x="4876920" y="169020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4876920" y="252900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5867280" y="2300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 flipV="1">
            <a:off x="7162920" y="16765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7162920" y="251460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8153280" y="2286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2209680" y="19810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flipV="1">
            <a:off x="4876920" y="1904760"/>
            <a:ext cx="8380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rot="17002200">
            <a:off x="7148160" y="1811880"/>
            <a:ext cx="1788840" cy="18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3511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35115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rot="6738000">
            <a:off x="1367640" y="2009160"/>
            <a:ext cx="1789560" cy="18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3511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35115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 rot="11917800">
            <a:off x="4965120" y="2630160"/>
            <a:ext cx="1551960" cy="110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56" y="670"/>
                </a:moveTo>
                <a:arcTo wR="10800" hR="10800" stAng="-6616960" swAng="6202168"/>
                <a:lnTo>
                  <a:pt x="10800" y="10800"/>
                </a:lnTo>
                <a:close/>
              </a:path>
              <a:path fill="none" w="21600" h="21600">
                <a:moveTo>
                  <a:pt x="7056" y="670"/>
                </a:moveTo>
                <a:arcTo wR="10800" hR="10800" stAng="-6616960" swAng="6202168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5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116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8" name=""/>
          <p:cNvSpPr/>
          <p:nvPr/>
        </p:nvSpPr>
        <p:spPr>
          <a:xfrm>
            <a:off x="1981080" y="13716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m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572000" y="1371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m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858000" y="1371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m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981080" y="2681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m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648320" y="2681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m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3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1124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66. A sample of radioactive material has a half-life of 60 years. After how many years will 1/16 of the original substance remain?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28" name="TPChart"/>
          <p:cNvGraphicFramePr/>
          <p:nvPr/>
        </p:nvGraphicFramePr>
        <p:xfrm>
          <a:off x="4508640" y="2133720"/>
          <a:ext cx="4570200" cy="46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133720"/>
                    <a:ext cx="4570200" cy="46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0 ye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20 ye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80 ye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40 ye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00 ye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31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132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4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1135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estion 67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9" name=""/>
          <p:cNvSpPr/>
          <p:nvPr/>
        </p:nvSpPr>
        <p:spPr>
          <a:xfrm>
            <a:off x="3276720" y="2133720"/>
            <a:ext cx="2361960" cy="10666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2286000" y="2666880"/>
            <a:ext cx="449568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4038480" y="2438280"/>
            <a:ext cx="762120" cy="4572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4038480" y="240516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4800600" y="240984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962520" y="1600200"/>
            <a:ext cx="761760" cy="762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900600" y="1828800"/>
            <a:ext cx="761760" cy="762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886200" y="2057400"/>
            <a:ext cx="762120" cy="762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5257800" y="3733920"/>
            <a:ext cx="228600" cy="7617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257800" y="37339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486400" y="38862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009880" y="3200400"/>
            <a:ext cx="53316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133720" y="3200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724280" y="4114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m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657600" y="2286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800600" y="2286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800600" y="26812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3733920" y="26668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67. Radiant energy of wavelength </a:t>
            </a:r>
            <a:r>
              <a:rPr b="1" lang="el-GR" sz="2800" spc="-1" strike="noStrike">
                <a:solidFill>
                  <a:srgbClr val="e5e5ff"/>
                </a:solidFill>
                <a:latin typeface="Garamond"/>
              </a:rPr>
              <a:t>λ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 is incident on a metal grid in an evacuated clear glass container as shown. A weak source of emf is included to aid electron transfer. The ammeter will register an increase in current except when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58" name="TPChart"/>
          <p:cNvGraphicFramePr/>
          <p:nvPr/>
        </p:nvGraphicFramePr>
        <p:xfrm>
          <a:off x="444492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adiant energy intensity is increas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mf is increas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radiant source is constan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separation between plates 1 and 2 is reduc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wire in the circuit is replaced with thinner wir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61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162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4" name="Countdown"/>
          <p:cNvGrpSpPr/>
          <p:nvPr/>
        </p:nvGrpSpPr>
        <p:grpSpPr>
          <a:xfrm>
            <a:off x="7493040" y="2438280"/>
            <a:ext cx="1270080" cy="635040"/>
            <a:chOff x="7493040" y="2438280"/>
            <a:chExt cx="1270080" cy="635040"/>
          </a:xfrm>
        </p:grpSpPr>
        <p:sp>
          <p:nvSpPr>
            <p:cNvPr id="1165" name="CDCube"/>
            <p:cNvSpPr/>
            <p:nvPr/>
          </p:nvSpPr>
          <p:spPr>
            <a:xfrm>
              <a:off x="7493040" y="243828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CDText"/>
            <p:cNvSpPr/>
            <p:nvPr/>
          </p:nvSpPr>
          <p:spPr>
            <a:xfrm>
              <a:off x="7594560" y="264132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CDLine"/>
            <p:cNvSpPr/>
            <p:nvPr/>
          </p:nvSpPr>
          <p:spPr>
            <a:xfrm>
              <a:off x="7810560" y="253980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68. Mass m approaches stationary mass M with velocity v as shown. Upon impact, m and M become attached. They move with a final velocity V of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69" name="TPChart"/>
          <p:cNvGraphicFramePr/>
          <p:nvPr/>
        </p:nvGraphicFramePr>
        <p:xfrm>
          <a:off x="444492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v/(M-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-(M/mv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v/(M+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v/(M+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+M)/m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2" name=""/>
          <p:cNvSpPr/>
          <p:nvPr/>
        </p:nvSpPr>
        <p:spPr>
          <a:xfrm>
            <a:off x="4038480" y="2971800"/>
            <a:ext cx="4114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4648320" y="2362320"/>
            <a:ext cx="83808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6781680" y="2362320"/>
            <a:ext cx="121932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5486400" y="26668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876920" y="2514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60199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71629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9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180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2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1183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6. How far horizontally does the shell in the previous problem travel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3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/2 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 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0√3 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00√3/2 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00√3 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66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67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" name="Countdown"/>
          <p:cNvGrpSpPr/>
          <p:nvPr/>
        </p:nvGrpSpPr>
        <p:grpSpPr>
          <a:xfrm>
            <a:off x="1295280" y="5638680"/>
            <a:ext cx="1270080" cy="635040"/>
            <a:chOff x="1295280" y="5638680"/>
            <a:chExt cx="1270080" cy="635040"/>
          </a:xfrm>
        </p:grpSpPr>
        <p:sp>
          <p:nvSpPr>
            <p:cNvPr id="170" name="CDCube"/>
            <p:cNvSpPr/>
            <p:nvPr/>
          </p:nvSpPr>
          <p:spPr>
            <a:xfrm>
              <a:off x="1295280" y="563868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CDText"/>
            <p:cNvSpPr/>
            <p:nvPr/>
          </p:nvSpPr>
          <p:spPr>
            <a:xfrm>
              <a:off x="1396800" y="584172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CDLine"/>
            <p:cNvSpPr/>
            <p:nvPr/>
          </p:nvSpPr>
          <p:spPr>
            <a:xfrm>
              <a:off x="1612800" y="574020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69. A robotics model can lift a mass M a vertical distance H in t seconds at a constant speed. The average power output of the model is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87" name="TPChart"/>
          <p:cNvGraphicFramePr/>
          <p:nvPr/>
        </p:nvGraphicFramePr>
        <p:xfrm>
          <a:off x="4508640" y="2057400"/>
          <a:ext cx="4570200" cy="47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057400"/>
                    <a:ext cx="4570200" cy="47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g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gH/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H/m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H/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90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191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3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1194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70. The robotics model now lifts a 3.0kg mass through a height of 0.5m in 1.0 seconds. The power developed i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98" name="TPChart"/>
          <p:cNvGraphicFramePr/>
          <p:nvPr/>
        </p:nvGraphicFramePr>
        <p:xfrm>
          <a:off x="450864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 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 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5 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0 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5 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01" name="ResponseCounter"/>
          <p:cNvGrpSpPr/>
          <p:nvPr/>
        </p:nvGrpSpPr>
        <p:grpSpPr>
          <a:xfrm>
            <a:off x="457200" y="5562720"/>
            <a:ext cx="952200" cy="952560"/>
            <a:chOff x="457200" y="5562720"/>
            <a:chExt cx="952200" cy="952560"/>
          </a:xfrm>
        </p:grpSpPr>
        <p:sp>
          <p:nvSpPr>
            <p:cNvPr id="1202" name="RCOuter"/>
            <p:cNvSpPr/>
            <p:nvPr/>
          </p:nvSpPr>
          <p:spPr>
            <a:xfrm>
              <a:off x="457200" y="556272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886e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RCInner"/>
            <p:cNvSpPr/>
            <p:nvPr/>
          </p:nvSpPr>
          <p:spPr>
            <a:xfrm>
              <a:off x="457200" y="556272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4" name="Countdown"/>
          <p:cNvGrpSpPr/>
          <p:nvPr/>
        </p:nvGrpSpPr>
        <p:grpSpPr>
          <a:xfrm>
            <a:off x="2006640" y="5765760"/>
            <a:ext cx="1270080" cy="635040"/>
            <a:chOff x="2006640" y="5765760"/>
            <a:chExt cx="1270080" cy="635040"/>
          </a:xfrm>
        </p:grpSpPr>
        <p:sp>
          <p:nvSpPr>
            <p:cNvPr id="1205" name="CDCube"/>
            <p:cNvSpPr/>
            <p:nvPr/>
          </p:nvSpPr>
          <p:spPr>
            <a:xfrm>
              <a:off x="2006640" y="576576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CDText"/>
            <p:cNvSpPr/>
            <p:nvPr/>
          </p:nvSpPr>
          <p:spPr>
            <a:xfrm>
              <a:off x="2108160" y="596880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CDLine"/>
            <p:cNvSpPr/>
            <p:nvPr/>
          </p:nvSpPr>
          <p:spPr>
            <a:xfrm>
              <a:off x="2324160" y="586728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7. An object weighing 10Nis swung in a vertical circle of diameter 2m. The object’s critical velocity at sea level is most nearl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4" name="TPChart"/>
          <p:cNvGraphicFramePr/>
          <p:nvPr/>
        </p:nvGraphicFramePr>
        <p:xfrm>
          <a:off x="4508640" y="2286000"/>
          <a:ext cx="4570200" cy="450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286000"/>
                    <a:ext cx="457020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m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m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m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m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9m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77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78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Countdown"/>
          <p:cNvGrpSpPr/>
          <p:nvPr/>
        </p:nvGrpSpPr>
        <p:grpSpPr>
          <a:xfrm>
            <a:off x="1295280" y="5638680"/>
            <a:ext cx="1270080" cy="635040"/>
            <a:chOff x="1295280" y="5638680"/>
            <a:chExt cx="1270080" cy="635040"/>
          </a:xfrm>
        </p:grpSpPr>
        <p:sp>
          <p:nvSpPr>
            <p:cNvPr id="181" name="CDCube"/>
            <p:cNvSpPr/>
            <p:nvPr/>
          </p:nvSpPr>
          <p:spPr>
            <a:xfrm>
              <a:off x="1295280" y="563868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CDText"/>
            <p:cNvSpPr/>
            <p:nvPr/>
          </p:nvSpPr>
          <p:spPr>
            <a:xfrm>
              <a:off x="1396800" y="584172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CDLine"/>
            <p:cNvSpPr/>
            <p:nvPr/>
          </p:nvSpPr>
          <p:spPr>
            <a:xfrm>
              <a:off x="1612800" y="574020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1:53:49Z</dcterms:created>
  <dc:creator> Matthew Shrader</dc:creator>
  <dc:description/>
  <dc:language>en-US</dc:language>
  <cp:lastModifiedBy>End User</cp:lastModifiedBy>
  <dcterms:modified xsi:type="dcterms:W3CDTF">2007-03-19T02:50:18Z</dcterms:modified>
  <cp:revision>93</cp:revision>
  <dc:subject/>
  <dc:title>Advanced Problems 1</dc:title>
</cp:coreProperties>
</file>